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99D9-30FF-4A32-9CE1-88C5BCDCD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A86C-52F3-4D05-BEB4-F6CFF0B36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D919-4625-49EB-AA08-975B6EA07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62AA-DDA8-43B9-830B-76FC268FA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EA09-61B8-4295-93EE-3C84F1F89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ECE7-C3A6-42B7-B47D-85F46C3BB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5B6E-2D09-4E96-9A2E-B4E979AB3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A524-C335-4285-99ED-A16FD7958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224A-F5F5-45A7-BD6E-BDF8D7819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5DD4-78CD-45B1-8425-08351066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AE23-FB62-4A9E-9C6D-CC0B3EE5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41C9-18F0-4215-9BE4-74E6240B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77B41-1A0D-4D97-ADAC-2C9D167C98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day’s Objective:  Students will find the area of a composite fig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1676520"/>
            <a:ext cx="746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rm -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area of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llelogram with a base of 18cm and a height of 5 c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angle with a base of 22 in and a height of 6 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73720" y="3402000"/>
            <a:ext cx="420480" cy="285840"/>
          </a:xfrm>
          <a:custGeom>
            <a:avLst/>
            <a:gdLst/>
            <a:ahLst/>
            <a:rect l="l" t="t" r="r" b="b"/>
            <a:pathLst>
              <a:path w="1167" h="794">
                <a:moveTo>
                  <a:pt x="12626" y="9525"/>
                </a:moveTo>
                <a:cubicBezTo>
                  <a:pt x="12616" y="9773"/>
                  <a:pt x="12581" y="9991"/>
                  <a:pt x="12477" y="10220"/>
                </a:cubicBezTo>
                <a:cubicBezTo>
                  <a:pt x="12469" y="10228"/>
                  <a:pt x="12460" y="10236"/>
                  <a:pt x="12452" y="10244"/>
                </a:cubicBezTo>
                <a:cubicBezTo>
                  <a:pt x="12460" y="10013"/>
                  <a:pt x="12431" y="9685"/>
                  <a:pt x="12601" y="9500"/>
                </a:cubicBezTo>
                <a:cubicBezTo>
                  <a:pt x="12689" y="9456"/>
                  <a:pt x="12710" y="9440"/>
                  <a:pt x="12774" y="9451"/>
                </a:cubicBezTo>
                <a:cubicBezTo>
                  <a:pt x="12941" y="9652"/>
                  <a:pt x="12961" y="9848"/>
                  <a:pt x="12923" y="10120"/>
                </a:cubicBezTo>
                <a:cubicBezTo>
                  <a:pt x="12915" y="10153"/>
                  <a:pt x="12906" y="10187"/>
                  <a:pt x="12898" y="10220"/>
                </a:cubicBezTo>
              </a:path>
              <a:path w="1167" h="794">
                <a:moveTo>
                  <a:pt x="12427" y="9971"/>
                </a:moveTo>
                <a:cubicBezTo>
                  <a:pt x="12612" y="9964"/>
                  <a:pt x="12790" y="9946"/>
                  <a:pt x="12973" y="9922"/>
                </a:cubicBezTo>
              </a:path>
              <a:path w="1167" h="794">
                <a:moveTo>
                  <a:pt x="13271" y="9922"/>
                </a:moveTo>
                <a:cubicBezTo>
                  <a:pt x="13380" y="9912"/>
                  <a:pt x="13482" y="9902"/>
                  <a:pt x="13593" y="9897"/>
                </a:cubicBezTo>
              </a:path>
              <a:path w="1167" h="794">
                <a:moveTo>
                  <a:pt x="13271" y="10120"/>
                </a:moveTo>
                <a:cubicBezTo>
                  <a:pt x="13403" y="10094"/>
                  <a:pt x="13452" y="10085"/>
                  <a:pt x="13543" y="10071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27760" y="3419640"/>
            <a:ext cx="374400" cy="268200"/>
          </a:xfrm>
          <a:custGeom>
            <a:avLst/>
            <a:gdLst/>
            <a:ahLst/>
            <a:rect l="l" t="t" r="r" b="b"/>
            <a:pathLst>
              <a:path w="1043" h="745">
                <a:moveTo>
                  <a:pt x="13990" y="9500"/>
                </a:moveTo>
                <a:cubicBezTo>
                  <a:pt x="13975" y="9708"/>
                  <a:pt x="13975" y="9889"/>
                  <a:pt x="13990" y="10096"/>
                </a:cubicBezTo>
                <a:cubicBezTo>
                  <a:pt x="13990" y="10121"/>
                  <a:pt x="13990" y="10145"/>
                  <a:pt x="13990" y="10170"/>
                </a:cubicBezTo>
                <a:cubicBezTo>
                  <a:pt x="14061" y="10027"/>
                  <a:pt x="14189" y="9767"/>
                  <a:pt x="14412" y="9872"/>
                </a:cubicBezTo>
                <a:cubicBezTo>
                  <a:pt x="14437" y="9905"/>
                  <a:pt x="14461" y="9938"/>
                  <a:pt x="14486" y="9971"/>
                </a:cubicBezTo>
                <a:cubicBezTo>
                  <a:pt x="14443" y="10175"/>
                  <a:pt x="14337" y="10289"/>
                  <a:pt x="14089" y="10244"/>
                </a:cubicBezTo>
                <a:cubicBezTo>
                  <a:pt x="14056" y="10228"/>
                  <a:pt x="14023" y="10211"/>
                  <a:pt x="13990" y="10195"/>
                </a:cubicBezTo>
              </a:path>
              <a:path w="1043" h="745">
                <a:moveTo>
                  <a:pt x="14610" y="9500"/>
                </a:moveTo>
                <a:cubicBezTo>
                  <a:pt x="14610" y="9709"/>
                  <a:pt x="14602" y="9915"/>
                  <a:pt x="14635" y="10120"/>
                </a:cubicBezTo>
                <a:cubicBezTo>
                  <a:pt x="14635" y="9973"/>
                  <a:pt x="14647" y="9876"/>
                  <a:pt x="14808" y="9823"/>
                </a:cubicBezTo>
                <a:cubicBezTo>
                  <a:pt x="14990" y="9763"/>
                  <a:pt x="15003" y="9917"/>
                  <a:pt x="15007" y="10046"/>
                </a:cubicBezTo>
                <a:cubicBezTo>
                  <a:pt x="15007" y="10131"/>
                  <a:pt x="15013" y="10151"/>
                  <a:pt x="14982" y="10195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64000" y="3795840"/>
            <a:ext cx="420840" cy="249120"/>
          </a:xfrm>
          <a:custGeom>
            <a:avLst/>
            <a:gdLst/>
            <a:ahLst/>
            <a:rect l="l" t="t" r="r" b="b"/>
            <a:pathLst>
              <a:path w="1167" h="696">
                <a:moveTo>
                  <a:pt x="12576" y="10790"/>
                </a:moveTo>
                <a:cubicBezTo>
                  <a:pt x="12554" y="10790"/>
                  <a:pt x="12515" y="11072"/>
                  <a:pt x="12477" y="11162"/>
                </a:cubicBezTo>
                <a:cubicBezTo>
                  <a:pt x="12460" y="11187"/>
                  <a:pt x="12444" y="11212"/>
                  <a:pt x="12427" y="11237"/>
                </a:cubicBezTo>
                <a:cubicBezTo>
                  <a:pt x="12398" y="11037"/>
                  <a:pt x="12424" y="10779"/>
                  <a:pt x="12576" y="10616"/>
                </a:cubicBezTo>
                <a:cubicBezTo>
                  <a:pt x="12617" y="10591"/>
                  <a:pt x="12659" y="10567"/>
                  <a:pt x="12700" y="10542"/>
                </a:cubicBezTo>
                <a:cubicBezTo>
                  <a:pt x="12900" y="10617"/>
                  <a:pt x="12964" y="10774"/>
                  <a:pt x="12948" y="11013"/>
                </a:cubicBezTo>
                <a:cubicBezTo>
                  <a:pt x="12940" y="11046"/>
                  <a:pt x="12931" y="11079"/>
                  <a:pt x="12923" y="11112"/>
                </a:cubicBezTo>
              </a:path>
              <a:path w="1167" h="696">
                <a:moveTo>
                  <a:pt x="12551" y="10939"/>
                </a:moveTo>
                <a:cubicBezTo>
                  <a:pt x="12719" y="10892"/>
                  <a:pt x="12874" y="10864"/>
                  <a:pt x="13047" y="10840"/>
                </a:cubicBezTo>
              </a:path>
              <a:path w="1167" h="696">
                <a:moveTo>
                  <a:pt x="13295" y="10815"/>
                </a:moveTo>
                <a:cubicBezTo>
                  <a:pt x="13386" y="10815"/>
                  <a:pt x="13477" y="10815"/>
                  <a:pt x="13568" y="10815"/>
                </a:cubicBezTo>
              </a:path>
              <a:path w="1167" h="696">
                <a:moveTo>
                  <a:pt x="13271" y="11013"/>
                </a:moveTo>
                <a:cubicBezTo>
                  <a:pt x="13387" y="11013"/>
                  <a:pt x="13436" y="11013"/>
                  <a:pt x="13519" y="11013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081760" y="3821040"/>
            <a:ext cx="1440" cy="162000"/>
          </a:xfrm>
          <a:custGeom>
            <a:avLst/>
            <a:gdLst/>
            <a:ahLst/>
            <a:rect l="l" t="t" r="r" b="b"/>
            <a:pathLst>
              <a:path w="1" h="448">
                <a:moveTo>
                  <a:pt x="14114" y="10616"/>
                </a:moveTo>
                <a:cubicBezTo>
                  <a:pt x="14114" y="10765"/>
                  <a:pt x="14114" y="10914"/>
                  <a:pt x="14114" y="11063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24320" y="3687840"/>
            <a:ext cx="714600" cy="349200"/>
          </a:xfrm>
          <a:custGeom>
            <a:avLst/>
            <a:gdLst/>
            <a:ahLst/>
            <a:rect l="l" t="t" r="r" b="b"/>
            <a:pathLst>
              <a:path w="1985" h="969">
                <a:moveTo>
                  <a:pt x="14660" y="10616"/>
                </a:moveTo>
                <a:cubicBezTo>
                  <a:pt x="14584" y="10587"/>
                  <a:pt x="14584" y="10624"/>
                  <a:pt x="14511" y="10691"/>
                </a:cubicBezTo>
                <a:cubicBezTo>
                  <a:pt x="14579" y="10855"/>
                  <a:pt x="14696" y="10945"/>
                  <a:pt x="14784" y="11088"/>
                </a:cubicBezTo>
                <a:cubicBezTo>
                  <a:pt x="14572" y="11174"/>
                  <a:pt x="14610" y="11031"/>
                  <a:pt x="14684" y="10864"/>
                </a:cubicBezTo>
                <a:cubicBezTo>
                  <a:pt x="14742" y="10749"/>
                  <a:pt x="14751" y="10732"/>
                  <a:pt x="14784" y="10666"/>
                </a:cubicBezTo>
              </a:path>
              <a:path w="1985" h="969">
                <a:moveTo>
                  <a:pt x="15156" y="10492"/>
                </a:moveTo>
                <a:cubicBezTo>
                  <a:pt x="15131" y="10643"/>
                  <a:pt x="15077" y="10807"/>
                  <a:pt x="15106" y="10964"/>
                </a:cubicBezTo>
                <a:cubicBezTo>
                  <a:pt x="15153" y="11056"/>
                  <a:pt x="15163" y="11085"/>
                  <a:pt x="15230" y="11112"/>
                </a:cubicBezTo>
              </a:path>
              <a:path w="1985" h="969">
                <a:moveTo>
                  <a:pt x="15875" y="10492"/>
                </a:moveTo>
                <a:cubicBezTo>
                  <a:pt x="15758" y="10528"/>
                  <a:pt x="15631" y="10536"/>
                  <a:pt x="15553" y="10641"/>
                </a:cubicBezTo>
                <a:cubicBezTo>
                  <a:pt x="15536" y="10674"/>
                  <a:pt x="15520" y="10707"/>
                  <a:pt x="15503" y="10740"/>
                </a:cubicBezTo>
                <a:cubicBezTo>
                  <a:pt x="15552" y="10837"/>
                  <a:pt x="15683" y="10749"/>
                  <a:pt x="15776" y="10740"/>
                </a:cubicBezTo>
                <a:cubicBezTo>
                  <a:pt x="15933" y="10726"/>
                  <a:pt x="15955" y="10772"/>
                  <a:pt x="16024" y="10889"/>
                </a:cubicBezTo>
                <a:cubicBezTo>
                  <a:pt x="15840" y="11037"/>
                  <a:pt x="15756" y="11078"/>
                  <a:pt x="15553" y="10964"/>
                </a:cubicBezTo>
              </a:path>
              <a:path w="1985" h="969">
                <a:moveTo>
                  <a:pt x="16247" y="10244"/>
                </a:moveTo>
                <a:cubicBezTo>
                  <a:pt x="16427" y="10467"/>
                  <a:pt x="16514" y="10645"/>
                  <a:pt x="16470" y="10939"/>
                </a:cubicBezTo>
                <a:cubicBezTo>
                  <a:pt x="16448" y="11088"/>
                  <a:pt x="16383" y="11134"/>
                  <a:pt x="16272" y="11212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83080" y="4098960"/>
            <a:ext cx="177840" cy="231840"/>
          </a:xfrm>
          <a:custGeom>
            <a:avLst/>
            <a:gdLst/>
            <a:ahLst/>
            <a:rect l="l" t="t" r="r" b="b"/>
            <a:pathLst>
              <a:path w="497" h="646">
                <a:moveTo>
                  <a:pt x="12452" y="11584"/>
                </a:moveTo>
                <a:cubicBezTo>
                  <a:pt x="12495" y="11733"/>
                  <a:pt x="12503" y="11802"/>
                  <a:pt x="12477" y="11956"/>
                </a:cubicBezTo>
                <a:cubicBezTo>
                  <a:pt x="12487" y="11685"/>
                  <a:pt x="12502" y="11572"/>
                  <a:pt x="12700" y="11385"/>
                </a:cubicBezTo>
                <a:cubicBezTo>
                  <a:pt x="12921" y="11496"/>
                  <a:pt x="12952" y="11608"/>
                  <a:pt x="12923" y="11857"/>
                </a:cubicBezTo>
                <a:cubicBezTo>
                  <a:pt x="12903" y="11956"/>
                  <a:pt x="12895" y="11971"/>
                  <a:pt x="12898" y="12030"/>
                </a:cubicBezTo>
              </a:path>
              <a:path w="497" h="646">
                <a:moveTo>
                  <a:pt x="12576" y="11807"/>
                </a:moveTo>
                <a:cubicBezTo>
                  <a:pt x="12703" y="11785"/>
                  <a:pt x="12821" y="11765"/>
                  <a:pt x="12948" y="11757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48120" y="4170240"/>
            <a:ext cx="125640" cy="71640"/>
          </a:xfrm>
          <a:custGeom>
            <a:avLst/>
            <a:gdLst/>
            <a:ahLst/>
            <a:rect l="l" t="t" r="r" b="b"/>
            <a:pathLst>
              <a:path w="348" h="199">
                <a:moveTo>
                  <a:pt x="13469" y="11609"/>
                </a:moveTo>
                <a:cubicBezTo>
                  <a:pt x="13586" y="11609"/>
                  <a:pt x="13620" y="11611"/>
                  <a:pt x="13692" y="11584"/>
                </a:cubicBezTo>
              </a:path>
              <a:path w="348" h="199">
                <a:moveTo>
                  <a:pt x="13543" y="11782"/>
                </a:moveTo>
                <a:cubicBezTo>
                  <a:pt x="13646" y="11768"/>
                  <a:pt x="13716" y="11757"/>
                  <a:pt x="13816" y="11757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97320" y="4106880"/>
            <a:ext cx="419400" cy="216000"/>
          </a:xfrm>
          <a:custGeom>
            <a:avLst/>
            <a:gdLst/>
            <a:ahLst/>
            <a:rect l="l" t="t" r="r" b="b"/>
            <a:pathLst>
              <a:path w="1167" h="596">
                <a:moveTo>
                  <a:pt x="14833" y="11584"/>
                </a:moveTo>
                <a:cubicBezTo>
                  <a:pt x="14903" y="11549"/>
                  <a:pt x="14769" y="11429"/>
                  <a:pt x="14660" y="11410"/>
                </a:cubicBezTo>
                <a:cubicBezTo>
                  <a:pt x="14440" y="11372"/>
                  <a:pt x="14457" y="11600"/>
                  <a:pt x="14511" y="11708"/>
                </a:cubicBezTo>
                <a:cubicBezTo>
                  <a:pt x="14690" y="11729"/>
                  <a:pt x="14717" y="11715"/>
                  <a:pt x="14833" y="11584"/>
                </a:cubicBezTo>
                <a:cubicBezTo>
                  <a:pt x="14833" y="11727"/>
                  <a:pt x="14845" y="11871"/>
                  <a:pt x="14808" y="12005"/>
                </a:cubicBezTo>
              </a:path>
              <a:path w="1167" h="596">
                <a:moveTo>
                  <a:pt x="15379" y="11559"/>
                </a:moveTo>
                <a:cubicBezTo>
                  <a:pt x="15260" y="11588"/>
                  <a:pt x="15086" y="11715"/>
                  <a:pt x="15156" y="11881"/>
                </a:cubicBezTo>
                <a:cubicBezTo>
                  <a:pt x="15246" y="12094"/>
                  <a:pt x="15544" y="11970"/>
                  <a:pt x="15602" y="11807"/>
                </a:cubicBezTo>
                <a:cubicBezTo>
                  <a:pt x="15656" y="11655"/>
                  <a:pt x="15538" y="11533"/>
                  <a:pt x="15429" y="11460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11920" y="4106880"/>
            <a:ext cx="106200" cy="152280"/>
          </a:xfrm>
          <a:custGeom>
            <a:avLst/>
            <a:gdLst/>
            <a:ahLst/>
            <a:rect l="l" t="t" r="r" b="b"/>
            <a:pathLst>
              <a:path w="298" h="423">
                <a:moveTo>
                  <a:pt x="16669" y="11485"/>
                </a:moveTo>
                <a:cubicBezTo>
                  <a:pt x="16597" y="11541"/>
                  <a:pt x="16611" y="11502"/>
                  <a:pt x="16545" y="11410"/>
                </a:cubicBezTo>
                <a:cubicBezTo>
                  <a:pt x="16400" y="11502"/>
                  <a:pt x="16332" y="11696"/>
                  <a:pt x="16545" y="11807"/>
                </a:cubicBezTo>
                <a:cubicBezTo>
                  <a:pt x="16603" y="11815"/>
                  <a:pt x="16660" y="11824"/>
                  <a:pt x="16718" y="11832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126120" y="4133880"/>
            <a:ext cx="258840" cy="135000"/>
          </a:xfrm>
          <a:custGeom>
            <a:avLst/>
            <a:gdLst/>
            <a:ahLst/>
            <a:rect l="l" t="t" r="r" b="b"/>
            <a:pathLst>
              <a:path w="720" h="373">
                <a:moveTo>
                  <a:pt x="17016" y="11609"/>
                </a:moveTo>
                <a:cubicBezTo>
                  <a:pt x="17016" y="11742"/>
                  <a:pt x="17012" y="11777"/>
                  <a:pt x="17041" y="11857"/>
                </a:cubicBezTo>
                <a:cubicBezTo>
                  <a:pt x="17055" y="11783"/>
                  <a:pt x="17104" y="11333"/>
                  <a:pt x="17289" y="11534"/>
                </a:cubicBezTo>
                <a:cubicBezTo>
                  <a:pt x="17372" y="11680"/>
                  <a:pt x="17397" y="11706"/>
                  <a:pt x="17413" y="11807"/>
                </a:cubicBezTo>
                <a:cubicBezTo>
                  <a:pt x="17429" y="11701"/>
                  <a:pt x="17452" y="11418"/>
                  <a:pt x="17636" y="11485"/>
                </a:cubicBezTo>
                <a:cubicBezTo>
                  <a:pt x="17764" y="11531"/>
                  <a:pt x="17730" y="11706"/>
                  <a:pt x="17735" y="11807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00880" y="4010040"/>
            <a:ext cx="142920" cy="133200"/>
          </a:xfrm>
          <a:custGeom>
            <a:avLst/>
            <a:gdLst/>
            <a:ahLst/>
            <a:rect l="l" t="t" r="r" b="b"/>
            <a:pathLst>
              <a:path w="398" h="373">
                <a:moveTo>
                  <a:pt x="18083" y="11162"/>
                </a:moveTo>
                <a:cubicBezTo>
                  <a:pt x="18255" y="11114"/>
                  <a:pt x="18387" y="11141"/>
                  <a:pt x="18355" y="11361"/>
                </a:cubicBezTo>
                <a:cubicBezTo>
                  <a:pt x="18328" y="11552"/>
                  <a:pt x="18149" y="11514"/>
                  <a:pt x="18058" y="11435"/>
                </a:cubicBezTo>
                <a:cubicBezTo>
                  <a:pt x="18198" y="11308"/>
                  <a:pt x="18271" y="11322"/>
                  <a:pt x="18430" y="11435"/>
                </a:cubicBezTo>
                <a:cubicBezTo>
                  <a:pt x="18438" y="11443"/>
                  <a:pt x="18447" y="11452"/>
                  <a:pt x="18455" y="11460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53000" y="5116680"/>
            <a:ext cx="463680" cy="322200"/>
          </a:xfrm>
          <a:custGeom>
            <a:avLst/>
            <a:gdLst/>
            <a:ahLst/>
            <a:rect l="l" t="t" r="r" b="b"/>
            <a:pathLst>
              <a:path w="1291" h="894">
                <a:moveTo>
                  <a:pt x="12998" y="14734"/>
                </a:moveTo>
                <a:cubicBezTo>
                  <a:pt x="13021" y="14672"/>
                  <a:pt x="13015" y="14613"/>
                  <a:pt x="13047" y="14560"/>
                </a:cubicBezTo>
                <a:cubicBezTo>
                  <a:pt x="13022" y="14733"/>
                  <a:pt x="12995" y="14889"/>
                  <a:pt x="12948" y="15056"/>
                </a:cubicBezTo>
                <a:cubicBezTo>
                  <a:pt x="12851" y="15155"/>
                  <a:pt x="12979" y="14687"/>
                  <a:pt x="12998" y="14635"/>
                </a:cubicBezTo>
                <a:cubicBezTo>
                  <a:pt x="13066" y="14447"/>
                  <a:pt x="13176" y="14339"/>
                  <a:pt x="13320" y="14213"/>
                </a:cubicBezTo>
                <a:cubicBezTo>
                  <a:pt x="13469" y="14460"/>
                  <a:pt x="13485" y="14620"/>
                  <a:pt x="13444" y="14908"/>
                </a:cubicBezTo>
                <a:cubicBezTo>
                  <a:pt x="13426" y="14999"/>
                  <a:pt x="13417" y="15006"/>
                  <a:pt x="13419" y="15056"/>
                </a:cubicBezTo>
              </a:path>
              <a:path w="1291" h="894">
                <a:moveTo>
                  <a:pt x="12948" y="14833"/>
                </a:moveTo>
                <a:cubicBezTo>
                  <a:pt x="13131" y="14802"/>
                  <a:pt x="13311" y="14765"/>
                  <a:pt x="13494" y="14734"/>
                </a:cubicBezTo>
              </a:path>
              <a:path w="1291" h="894">
                <a:moveTo>
                  <a:pt x="13841" y="14635"/>
                </a:moveTo>
                <a:cubicBezTo>
                  <a:pt x="13950" y="14626"/>
                  <a:pt x="14055" y="14606"/>
                  <a:pt x="14163" y="14585"/>
                </a:cubicBezTo>
              </a:path>
              <a:path w="1291" h="894">
                <a:moveTo>
                  <a:pt x="13816" y="14858"/>
                </a:moveTo>
                <a:cubicBezTo>
                  <a:pt x="14016" y="14833"/>
                  <a:pt x="14084" y="14824"/>
                  <a:pt x="14213" y="14784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19800" y="5106960"/>
            <a:ext cx="430200" cy="554040"/>
          </a:xfrm>
          <a:custGeom>
            <a:avLst/>
            <a:gdLst/>
            <a:ahLst/>
            <a:rect l="l" t="t" r="r" b="b"/>
            <a:pathLst>
              <a:path w="1192" h="1539">
                <a:moveTo>
                  <a:pt x="15180" y="14436"/>
                </a:moveTo>
                <a:cubicBezTo>
                  <a:pt x="15199" y="14593"/>
                  <a:pt x="15220" y="14750"/>
                  <a:pt x="15230" y="14908"/>
                </a:cubicBezTo>
                <a:cubicBezTo>
                  <a:pt x="15263" y="14793"/>
                  <a:pt x="15302" y="14498"/>
                  <a:pt x="15478" y="14511"/>
                </a:cubicBezTo>
                <a:cubicBezTo>
                  <a:pt x="15602" y="14585"/>
                  <a:pt x="15644" y="14610"/>
                  <a:pt x="15677" y="14709"/>
                </a:cubicBezTo>
                <a:cubicBezTo>
                  <a:pt x="15538" y="14935"/>
                  <a:pt x="15461" y="14928"/>
                  <a:pt x="15205" y="14858"/>
                </a:cubicBezTo>
              </a:path>
              <a:path w="1192" h="1539">
                <a:moveTo>
                  <a:pt x="15776" y="14188"/>
                </a:moveTo>
                <a:cubicBezTo>
                  <a:pt x="15795" y="14395"/>
                  <a:pt x="15831" y="14602"/>
                  <a:pt x="15850" y="14808"/>
                </a:cubicBezTo>
                <a:cubicBezTo>
                  <a:pt x="15862" y="14941"/>
                  <a:pt x="15866" y="14658"/>
                  <a:pt x="15974" y="14560"/>
                </a:cubicBezTo>
                <a:cubicBezTo>
                  <a:pt x="16007" y="14544"/>
                  <a:pt x="16040" y="14527"/>
                  <a:pt x="16073" y="14511"/>
                </a:cubicBezTo>
                <a:cubicBezTo>
                  <a:pt x="16241" y="14622"/>
                  <a:pt x="16274" y="14677"/>
                  <a:pt x="16222" y="14883"/>
                </a:cubicBezTo>
                <a:cubicBezTo>
                  <a:pt x="16214" y="14908"/>
                  <a:pt x="16205" y="14932"/>
                  <a:pt x="16197" y="14957"/>
                </a:cubicBezTo>
              </a:path>
              <a:path w="1192" h="1539">
                <a:moveTo>
                  <a:pt x="15056" y="15180"/>
                </a:moveTo>
                <a:cubicBezTo>
                  <a:pt x="15339" y="15155"/>
                  <a:pt x="15618" y="15127"/>
                  <a:pt x="15900" y="15106"/>
                </a:cubicBezTo>
                <a:cubicBezTo>
                  <a:pt x="16082" y="15086"/>
                  <a:pt x="16117" y="15067"/>
                  <a:pt x="16222" y="15106"/>
                </a:cubicBezTo>
              </a:path>
              <a:path w="1192" h="1539">
                <a:moveTo>
                  <a:pt x="15503" y="15379"/>
                </a:moveTo>
                <a:cubicBezTo>
                  <a:pt x="15644" y="15379"/>
                  <a:pt x="15788" y="15363"/>
                  <a:pt x="15925" y="15404"/>
                </a:cubicBezTo>
                <a:cubicBezTo>
                  <a:pt x="15933" y="15412"/>
                  <a:pt x="15941" y="15421"/>
                  <a:pt x="15949" y="15429"/>
                </a:cubicBezTo>
                <a:cubicBezTo>
                  <a:pt x="15850" y="15571"/>
                  <a:pt x="15720" y="15631"/>
                  <a:pt x="15577" y="15726"/>
                </a:cubicBezTo>
                <a:cubicBezTo>
                  <a:pt x="15765" y="15726"/>
                  <a:pt x="15938" y="15708"/>
                  <a:pt x="16123" y="15677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43760" y="5295960"/>
            <a:ext cx="241200" cy="71280"/>
          </a:xfrm>
          <a:custGeom>
            <a:avLst/>
            <a:gdLst/>
            <a:ahLst/>
            <a:rect l="l" t="t" r="r" b="b"/>
            <a:pathLst>
              <a:path w="670" h="200">
                <a:moveTo>
                  <a:pt x="17239" y="14734"/>
                </a:moveTo>
                <a:cubicBezTo>
                  <a:pt x="17107" y="14746"/>
                  <a:pt x="17078" y="14775"/>
                  <a:pt x="17090" y="14908"/>
                </a:cubicBezTo>
                <a:cubicBezTo>
                  <a:pt x="17225" y="14908"/>
                  <a:pt x="17232" y="14902"/>
                  <a:pt x="17338" y="14833"/>
                </a:cubicBezTo>
              </a:path>
              <a:path w="670" h="200">
                <a:moveTo>
                  <a:pt x="17636" y="14883"/>
                </a:moveTo>
                <a:cubicBezTo>
                  <a:pt x="17622" y="14788"/>
                  <a:pt x="17660" y="14778"/>
                  <a:pt x="17735" y="14709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705720" y="5143680"/>
            <a:ext cx="760320" cy="401400"/>
          </a:xfrm>
          <a:custGeom>
            <a:avLst/>
            <a:gdLst/>
            <a:ahLst/>
            <a:rect l="l" t="t" r="r" b="b"/>
            <a:pathLst>
              <a:path w="2110" h="1117">
                <a:moveTo>
                  <a:pt x="18852" y="14288"/>
                </a:moveTo>
                <a:cubicBezTo>
                  <a:pt x="18896" y="14466"/>
                  <a:pt x="18935" y="14628"/>
                  <a:pt x="18951" y="14808"/>
                </a:cubicBezTo>
              </a:path>
              <a:path w="2110" h="1117">
                <a:moveTo>
                  <a:pt x="18628" y="14883"/>
                </a:moveTo>
                <a:cubicBezTo>
                  <a:pt x="18864" y="14913"/>
                  <a:pt x="19086" y="14892"/>
                  <a:pt x="19323" y="14883"/>
                </a:cubicBezTo>
              </a:path>
              <a:path w="2110" h="1117">
                <a:moveTo>
                  <a:pt x="18876" y="15131"/>
                </a:moveTo>
                <a:cubicBezTo>
                  <a:pt x="18975" y="15131"/>
                  <a:pt x="19075" y="15131"/>
                  <a:pt x="19174" y="15131"/>
                </a:cubicBezTo>
                <a:cubicBezTo>
                  <a:pt x="19098" y="15216"/>
                  <a:pt x="19018" y="15293"/>
                  <a:pt x="18951" y="15379"/>
                </a:cubicBezTo>
                <a:cubicBezTo>
                  <a:pt x="19099" y="15398"/>
                  <a:pt x="19200" y="15401"/>
                  <a:pt x="19348" y="15379"/>
                </a:cubicBezTo>
              </a:path>
              <a:path w="2110" h="1117">
                <a:moveTo>
                  <a:pt x="19546" y="14536"/>
                </a:moveTo>
                <a:cubicBezTo>
                  <a:pt x="19608" y="14693"/>
                  <a:pt x="19662" y="14849"/>
                  <a:pt x="19720" y="15007"/>
                </a:cubicBezTo>
                <a:cubicBezTo>
                  <a:pt x="19784" y="14860"/>
                  <a:pt x="19861" y="14703"/>
                  <a:pt x="20017" y="14858"/>
                </a:cubicBezTo>
                <a:cubicBezTo>
                  <a:pt x="20034" y="14883"/>
                  <a:pt x="20050" y="14907"/>
                  <a:pt x="20067" y="14932"/>
                </a:cubicBezTo>
                <a:cubicBezTo>
                  <a:pt x="20035" y="15042"/>
                  <a:pt x="19862" y="15059"/>
                  <a:pt x="19745" y="15056"/>
                </a:cubicBezTo>
                <a:cubicBezTo>
                  <a:pt x="19728" y="15048"/>
                  <a:pt x="19712" y="15040"/>
                  <a:pt x="19695" y="15032"/>
                </a:cubicBezTo>
              </a:path>
              <a:path w="2110" h="1117">
                <a:moveTo>
                  <a:pt x="20265" y="14461"/>
                </a:moveTo>
                <a:cubicBezTo>
                  <a:pt x="20265" y="14624"/>
                  <a:pt x="20317" y="14771"/>
                  <a:pt x="20340" y="14932"/>
                </a:cubicBezTo>
                <a:cubicBezTo>
                  <a:pt x="20353" y="15027"/>
                  <a:pt x="20360" y="14824"/>
                  <a:pt x="20464" y="14784"/>
                </a:cubicBezTo>
                <a:cubicBezTo>
                  <a:pt x="20602" y="14731"/>
                  <a:pt x="20709" y="14835"/>
                  <a:pt x="20737" y="14957"/>
                </a:cubicBezTo>
                <a:cubicBezTo>
                  <a:pt x="20737" y="14974"/>
                  <a:pt x="20737" y="14990"/>
                  <a:pt x="20737" y="15007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70280" y="5732640"/>
            <a:ext cx="4010040" cy="625320"/>
          </a:xfrm>
          <a:custGeom>
            <a:avLst/>
            <a:gdLst/>
            <a:ahLst/>
            <a:rect l="l" t="t" r="r" b="b"/>
            <a:pathLst>
              <a:path w="11138" h="1737">
                <a:moveTo>
                  <a:pt x="13047" y="16421"/>
                </a:moveTo>
                <a:cubicBezTo>
                  <a:pt x="13030" y="16564"/>
                  <a:pt x="13067" y="16847"/>
                  <a:pt x="12973" y="16966"/>
                </a:cubicBezTo>
                <a:cubicBezTo>
                  <a:pt x="12973" y="16950"/>
                  <a:pt x="12973" y="16933"/>
                  <a:pt x="12973" y="16917"/>
                </a:cubicBezTo>
                <a:cubicBezTo>
                  <a:pt x="12982" y="16674"/>
                  <a:pt x="12987" y="16411"/>
                  <a:pt x="13171" y="16222"/>
                </a:cubicBezTo>
                <a:cubicBezTo>
                  <a:pt x="13282" y="16156"/>
                  <a:pt x="13309" y="16131"/>
                  <a:pt x="13395" y="16148"/>
                </a:cubicBezTo>
                <a:cubicBezTo>
                  <a:pt x="13498" y="16335"/>
                  <a:pt x="13514" y="16500"/>
                  <a:pt x="13519" y="16718"/>
                </a:cubicBezTo>
                <a:cubicBezTo>
                  <a:pt x="13519" y="16743"/>
                  <a:pt x="13519" y="16768"/>
                  <a:pt x="13519" y="16793"/>
                </a:cubicBezTo>
              </a:path>
              <a:path w="11138" h="1737">
                <a:moveTo>
                  <a:pt x="12998" y="16644"/>
                </a:moveTo>
                <a:cubicBezTo>
                  <a:pt x="13150" y="16600"/>
                  <a:pt x="13311" y="16563"/>
                  <a:pt x="13469" y="16545"/>
                </a:cubicBezTo>
                <a:cubicBezTo>
                  <a:pt x="13494" y="16545"/>
                  <a:pt x="13518" y="16545"/>
                  <a:pt x="13543" y="16545"/>
                </a:cubicBezTo>
              </a:path>
              <a:path w="11138" h="1737">
                <a:moveTo>
                  <a:pt x="13841" y="16446"/>
                </a:moveTo>
                <a:cubicBezTo>
                  <a:pt x="13935" y="16433"/>
                  <a:pt x="14018" y="16421"/>
                  <a:pt x="14114" y="16421"/>
                </a:cubicBezTo>
              </a:path>
              <a:path w="11138" h="1737">
                <a:moveTo>
                  <a:pt x="13816" y="16619"/>
                </a:moveTo>
                <a:cubicBezTo>
                  <a:pt x="13926" y="16635"/>
                  <a:pt x="14027" y="16644"/>
                  <a:pt x="14139" y="16644"/>
                </a:cubicBezTo>
              </a:path>
              <a:path w="11138" h="1737">
                <a:moveTo>
                  <a:pt x="14684" y="16272"/>
                </a:moveTo>
                <a:cubicBezTo>
                  <a:pt x="14728" y="16268"/>
                  <a:pt x="14955" y="16207"/>
                  <a:pt x="14982" y="16247"/>
                </a:cubicBezTo>
                <a:cubicBezTo>
                  <a:pt x="15050" y="16348"/>
                  <a:pt x="14879" y="16489"/>
                  <a:pt x="14833" y="16545"/>
                </a:cubicBezTo>
                <a:cubicBezTo>
                  <a:pt x="14817" y="16553"/>
                  <a:pt x="14800" y="16562"/>
                  <a:pt x="14784" y="16570"/>
                </a:cubicBezTo>
                <a:cubicBezTo>
                  <a:pt x="14904" y="16562"/>
                  <a:pt x="14996" y="16544"/>
                  <a:pt x="15106" y="16495"/>
                </a:cubicBezTo>
              </a:path>
              <a:path w="11138" h="1737">
                <a:moveTo>
                  <a:pt x="15180" y="16173"/>
                </a:moveTo>
                <a:cubicBezTo>
                  <a:pt x="15286" y="16154"/>
                  <a:pt x="15377" y="16183"/>
                  <a:pt x="15304" y="16321"/>
                </a:cubicBezTo>
                <a:cubicBezTo>
                  <a:pt x="15262" y="16400"/>
                  <a:pt x="15209" y="16414"/>
                  <a:pt x="15180" y="16470"/>
                </a:cubicBezTo>
                <a:cubicBezTo>
                  <a:pt x="15291" y="16498"/>
                  <a:pt x="15350" y="16504"/>
                  <a:pt x="15453" y="16446"/>
                </a:cubicBezTo>
              </a:path>
              <a:path w="11138" h="1737">
                <a:moveTo>
                  <a:pt x="15652" y="16049"/>
                </a:moveTo>
                <a:cubicBezTo>
                  <a:pt x="15604" y="16183"/>
                  <a:pt x="15503" y="16352"/>
                  <a:pt x="15577" y="16495"/>
                </a:cubicBezTo>
                <a:cubicBezTo>
                  <a:pt x="15638" y="16613"/>
                  <a:pt x="15768" y="16588"/>
                  <a:pt x="15875" y="16594"/>
                </a:cubicBezTo>
              </a:path>
              <a:path w="11138" h="1737">
                <a:moveTo>
                  <a:pt x="15925" y="16098"/>
                </a:moveTo>
                <a:cubicBezTo>
                  <a:pt x="15906" y="16217"/>
                  <a:pt x="15852" y="16378"/>
                  <a:pt x="15949" y="16470"/>
                </a:cubicBezTo>
                <a:cubicBezTo>
                  <a:pt x="16038" y="16555"/>
                  <a:pt x="16153" y="16535"/>
                  <a:pt x="16197" y="16421"/>
                </a:cubicBezTo>
                <a:cubicBezTo>
                  <a:pt x="16242" y="16304"/>
                  <a:pt x="16088" y="16421"/>
                  <a:pt x="16073" y="16446"/>
                </a:cubicBezTo>
              </a:path>
              <a:path w="11138" h="1737">
                <a:moveTo>
                  <a:pt x="16247" y="16049"/>
                </a:moveTo>
                <a:cubicBezTo>
                  <a:pt x="16363" y="16155"/>
                  <a:pt x="16492" y="16277"/>
                  <a:pt x="16446" y="16446"/>
                </a:cubicBezTo>
                <a:cubicBezTo>
                  <a:pt x="16402" y="16533"/>
                  <a:pt x="16395" y="16556"/>
                  <a:pt x="16346" y="16594"/>
                </a:cubicBezTo>
              </a:path>
              <a:path w="11138" h="1737">
                <a:moveTo>
                  <a:pt x="14957" y="16991"/>
                </a:moveTo>
                <a:cubicBezTo>
                  <a:pt x="15194" y="16952"/>
                  <a:pt x="15434" y="16896"/>
                  <a:pt x="15677" y="16867"/>
                </a:cubicBezTo>
                <a:cubicBezTo>
                  <a:pt x="15925" y="16837"/>
                  <a:pt x="16173" y="16785"/>
                  <a:pt x="16421" y="16768"/>
                </a:cubicBezTo>
              </a:path>
              <a:path w="11138" h="1737">
                <a:moveTo>
                  <a:pt x="15553" y="17066"/>
                </a:moveTo>
                <a:cubicBezTo>
                  <a:pt x="15682" y="17066"/>
                  <a:pt x="15798" y="17070"/>
                  <a:pt x="15925" y="17090"/>
                </a:cubicBezTo>
                <a:cubicBezTo>
                  <a:pt x="15859" y="17233"/>
                  <a:pt x="15713" y="17300"/>
                  <a:pt x="15577" y="17413"/>
                </a:cubicBezTo>
                <a:cubicBezTo>
                  <a:pt x="15704" y="17406"/>
                  <a:pt x="15824" y="17376"/>
                  <a:pt x="15949" y="17363"/>
                </a:cubicBezTo>
              </a:path>
              <a:path w="11138" h="1737">
                <a:moveTo>
                  <a:pt x="17016" y="16619"/>
                </a:moveTo>
                <a:cubicBezTo>
                  <a:pt x="17108" y="16681"/>
                  <a:pt x="17171" y="16669"/>
                  <a:pt x="17289" y="16669"/>
                </a:cubicBezTo>
              </a:path>
              <a:path w="11138" h="1737">
                <a:moveTo>
                  <a:pt x="17066" y="16892"/>
                </a:moveTo>
                <a:cubicBezTo>
                  <a:pt x="17145" y="16884"/>
                  <a:pt x="17213" y="16865"/>
                  <a:pt x="17289" y="16842"/>
                </a:cubicBezTo>
              </a:path>
              <a:path w="11138" h="1737">
                <a:moveTo>
                  <a:pt x="17983" y="16123"/>
                </a:moveTo>
                <a:cubicBezTo>
                  <a:pt x="18010" y="16286"/>
                  <a:pt x="18084" y="16431"/>
                  <a:pt x="18132" y="16594"/>
                </a:cubicBezTo>
              </a:path>
              <a:path w="11138" h="1737">
                <a:moveTo>
                  <a:pt x="18355" y="16148"/>
                </a:moveTo>
                <a:cubicBezTo>
                  <a:pt x="18486" y="16135"/>
                  <a:pt x="18550" y="16136"/>
                  <a:pt x="18678" y="16173"/>
                </a:cubicBezTo>
                <a:cubicBezTo>
                  <a:pt x="18661" y="16324"/>
                  <a:pt x="18613" y="16343"/>
                  <a:pt x="18479" y="16396"/>
                </a:cubicBezTo>
                <a:cubicBezTo>
                  <a:pt x="18426" y="16396"/>
                  <a:pt x="18666" y="16384"/>
                  <a:pt x="18703" y="16396"/>
                </a:cubicBezTo>
                <a:cubicBezTo>
                  <a:pt x="18736" y="16413"/>
                  <a:pt x="18769" y="16429"/>
                  <a:pt x="18802" y="16446"/>
                </a:cubicBezTo>
                <a:cubicBezTo>
                  <a:pt x="18747" y="16611"/>
                  <a:pt x="18662" y="16586"/>
                  <a:pt x="18504" y="16570"/>
                </a:cubicBezTo>
              </a:path>
              <a:path w="11138" h="1737">
                <a:moveTo>
                  <a:pt x="18901" y="16123"/>
                </a:moveTo>
                <a:cubicBezTo>
                  <a:pt x="18965" y="16123"/>
                  <a:pt x="19274" y="16102"/>
                  <a:pt x="19124" y="16272"/>
                </a:cubicBezTo>
                <a:cubicBezTo>
                  <a:pt x="19091" y="16288"/>
                  <a:pt x="19058" y="16305"/>
                  <a:pt x="19025" y="16321"/>
                </a:cubicBezTo>
                <a:cubicBezTo>
                  <a:pt x="19009" y="16329"/>
                  <a:pt x="18992" y="16338"/>
                  <a:pt x="18976" y="16346"/>
                </a:cubicBezTo>
                <a:cubicBezTo>
                  <a:pt x="19093" y="16325"/>
                  <a:pt x="19218" y="16290"/>
                  <a:pt x="19298" y="16371"/>
                </a:cubicBezTo>
                <a:cubicBezTo>
                  <a:pt x="19218" y="16531"/>
                  <a:pt x="19175" y="16520"/>
                  <a:pt x="19000" y="16520"/>
                </a:cubicBezTo>
              </a:path>
              <a:path w="11138" h="1737">
                <a:moveTo>
                  <a:pt x="18157" y="16966"/>
                </a:moveTo>
                <a:cubicBezTo>
                  <a:pt x="18514" y="16903"/>
                  <a:pt x="18861" y="16872"/>
                  <a:pt x="19224" y="16867"/>
                </a:cubicBezTo>
                <a:cubicBezTo>
                  <a:pt x="19273" y="16867"/>
                  <a:pt x="19323" y="16867"/>
                  <a:pt x="19372" y="16867"/>
                </a:cubicBezTo>
              </a:path>
              <a:path w="11138" h="1737">
                <a:moveTo>
                  <a:pt x="18554" y="17190"/>
                </a:moveTo>
                <a:cubicBezTo>
                  <a:pt x="18685" y="17190"/>
                  <a:pt x="18836" y="17172"/>
                  <a:pt x="18951" y="17214"/>
                </a:cubicBezTo>
                <a:cubicBezTo>
                  <a:pt x="18853" y="17332"/>
                  <a:pt x="18768" y="17374"/>
                  <a:pt x="18628" y="17438"/>
                </a:cubicBezTo>
                <a:cubicBezTo>
                  <a:pt x="18751" y="17460"/>
                  <a:pt x="18924" y="17434"/>
                  <a:pt x="19050" y="17388"/>
                </a:cubicBezTo>
                <a:cubicBezTo>
                  <a:pt x="19058" y="17380"/>
                  <a:pt x="19067" y="17371"/>
                  <a:pt x="19075" y="17363"/>
                </a:cubicBezTo>
              </a:path>
              <a:path w="11138" h="1737">
                <a:moveTo>
                  <a:pt x="19893" y="16619"/>
                </a:moveTo>
                <a:cubicBezTo>
                  <a:pt x="20007" y="16643"/>
                  <a:pt x="20076" y="16640"/>
                  <a:pt x="20191" y="16619"/>
                </a:cubicBezTo>
              </a:path>
              <a:path w="11138" h="1737">
                <a:moveTo>
                  <a:pt x="19893" y="16867"/>
                </a:moveTo>
                <a:cubicBezTo>
                  <a:pt x="20026" y="16867"/>
                  <a:pt x="20061" y="16871"/>
                  <a:pt x="20141" y="16842"/>
                </a:cubicBezTo>
              </a:path>
              <a:path w="11138" h="1737">
                <a:moveTo>
                  <a:pt x="18777" y="16197"/>
                </a:moveTo>
                <a:cubicBezTo>
                  <a:pt x="18736" y="16239"/>
                  <a:pt x="18728" y="16247"/>
                  <a:pt x="18703" y="16272"/>
                </a:cubicBezTo>
              </a:path>
              <a:path w="11138" h="1737">
                <a:moveTo>
                  <a:pt x="18827" y="16173"/>
                </a:moveTo>
                <a:cubicBezTo>
                  <a:pt x="18997" y="16041"/>
                  <a:pt x="18900" y="16129"/>
                  <a:pt x="19075" y="16073"/>
                </a:cubicBezTo>
                <a:cubicBezTo>
                  <a:pt x="19147" y="16050"/>
                  <a:pt x="19223" y="16017"/>
                  <a:pt x="19273" y="16098"/>
                </a:cubicBezTo>
                <a:cubicBezTo>
                  <a:pt x="19322" y="16178"/>
                  <a:pt x="19294" y="16273"/>
                  <a:pt x="19248" y="16346"/>
                </a:cubicBezTo>
                <a:cubicBezTo>
                  <a:pt x="19188" y="16440"/>
                  <a:pt x="19097" y="16502"/>
                  <a:pt x="19050" y="16594"/>
                </a:cubicBezTo>
                <a:cubicBezTo>
                  <a:pt x="19027" y="16617"/>
                  <a:pt x="19019" y="16621"/>
                  <a:pt x="19025" y="16644"/>
                </a:cubicBezTo>
                <a:cubicBezTo>
                  <a:pt x="19037" y="16590"/>
                  <a:pt x="19060" y="16471"/>
                  <a:pt x="19149" y="16495"/>
                </a:cubicBezTo>
                <a:cubicBezTo>
                  <a:pt x="19242" y="16520"/>
                  <a:pt x="19316" y="16624"/>
                  <a:pt x="19422" y="16594"/>
                </a:cubicBezTo>
                <a:cubicBezTo>
                  <a:pt x="19447" y="16578"/>
                  <a:pt x="19471" y="16561"/>
                  <a:pt x="19496" y="16545"/>
                </a:cubicBezTo>
              </a:path>
              <a:path w="11138" h="1737">
                <a:moveTo>
                  <a:pt x="20786" y="16470"/>
                </a:moveTo>
                <a:cubicBezTo>
                  <a:pt x="20763" y="16550"/>
                  <a:pt x="20583" y="16960"/>
                  <a:pt x="20662" y="17041"/>
                </a:cubicBezTo>
                <a:cubicBezTo>
                  <a:pt x="20811" y="17194"/>
                  <a:pt x="21054" y="16984"/>
                  <a:pt x="21134" y="16867"/>
                </a:cubicBezTo>
                <a:cubicBezTo>
                  <a:pt x="21205" y="16763"/>
                  <a:pt x="21205" y="16766"/>
                  <a:pt x="21134" y="16718"/>
                </a:cubicBezTo>
                <a:cubicBezTo>
                  <a:pt x="21029" y="16761"/>
                  <a:pt x="21005" y="16808"/>
                  <a:pt x="20935" y="16917"/>
                </a:cubicBezTo>
              </a:path>
              <a:path w="11138" h="1737">
                <a:moveTo>
                  <a:pt x="21406" y="16346"/>
                </a:moveTo>
                <a:cubicBezTo>
                  <a:pt x="21370" y="16512"/>
                  <a:pt x="21302" y="16678"/>
                  <a:pt x="21332" y="16842"/>
                </a:cubicBezTo>
                <a:cubicBezTo>
                  <a:pt x="21366" y="17029"/>
                  <a:pt x="21629" y="16930"/>
                  <a:pt x="21729" y="16867"/>
                </a:cubicBezTo>
                <a:cubicBezTo>
                  <a:pt x="21815" y="16813"/>
                  <a:pt x="21818" y="16756"/>
                  <a:pt x="21828" y="16669"/>
                </a:cubicBezTo>
                <a:cubicBezTo>
                  <a:pt x="21682" y="16612"/>
                  <a:pt x="21580" y="16648"/>
                  <a:pt x="21506" y="16818"/>
                </a:cubicBezTo>
                <a:cubicBezTo>
                  <a:pt x="21506" y="16834"/>
                  <a:pt x="21506" y="16851"/>
                  <a:pt x="21506" y="16867"/>
                </a:cubicBezTo>
              </a:path>
              <a:path w="11138" h="1737">
                <a:moveTo>
                  <a:pt x="22349" y="16917"/>
                </a:moveTo>
                <a:cubicBezTo>
                  <a:pt x="22362" y="16999"/>
                  <a:pt x="22370" y="17097"/>
                  <a:pt x="22399" y="17165"/>
                </a:cubicBezTo>
              </a:path>
              <a:path w="11138" h="1737">
                <a:moveTo>
                  <a:pt x="22250" y="16718"/>
                </a:moveTo>
                <a:lnTo>
                  <a:pt x="22250" y="16718"/>
                </a:lnTo>
              </a:path>
              <a:path w="11138" h="1737">
                <a:moveTo>
                  <a:pt x="22671" y="16917"/>
                </a:moveTo>
                <a:cubicBezTo>
                  <a:pt x="22694" y="16984"/>
                  <a:pt x="22699" y="17002"/>
                  <a:pt x="22721" y="17041"/>
                </a:cubicBezTo>
                <a:cubicBezTo>
                  <a:pt x="22672" y="16912"/>
                  <a:pt x="22621" y="16799"/>
                  <a:pt x="22771" y="16718"/>
                </a:cubicBezTo>
                <a:cubicBezTo>
                  <a:pt x="22963" y="16614"/>
                  <a:pt x="23026" y="16739"/>
                  <a:pt x="23093" y="16892"/>
                </a:cubicBezTo>
                <a:cubicBezTo>
                  <a:pt x="23101" y="16909"/>
                  <a:pt x="23110" y="16925"/>
                  <a:pt x="23118" y="16942"/>
                </a:cubicBezTo>
              </a:path>
              <a:path w="11138" h="1737">
                <a:moveTo>
                  <a:pt x="23093" y="16222"/>
                </a:moveTo>
                <a:cubicBezTo>
                  <a:pt x="23201" y="16200"/>
                  <a:pt x="23278" y="16196"/>
                  <a:pt x="23366" y="16297"/>
                </a:cubicBezTo>
                <a:cubicBezTo>
                  <a:pt x="23511" y="16464"/>
                  <a:pt x="23326" y="16578"/>
                  <a:pt x="23192" y="16619"/>
                </a:cubicBezTo>
                <a:cubicBezTo>
                  <a:pt x="23184" y="16619"/>
                  <a:pt x="23176" y="16619"/>
                  <a:pt x="23168" y="16619"/>
                </a:cubicBezTo>
                <a:cubicBezTo>
                  <a:pt x="23220" y="16525"/>
                  <a:pt x="23355" y="16417"/>
                  <a:pt x="23490" y="16495"/>
                </a:cubicBezTo>
                <a:cubicBezTo>
                  <a:pt x="23515" y="16545"/>
                  <a:pt x="23523" y="16561"/>
                  <a:pt x="23540" y="16594"/>
                </a:cubicBezTo>
              </a:path>
              <a:path w="11138" h="1737">
                <a:moveTo>
                  <a:pt x="20414" y="16495"/>
                </a:moveTo>
                <a:cubicBezTo>
                  <a:pt x="20567" y="16838"/>
                  <a:pt x="20653" y="17197"/>
                  <a:pt x="20737" y="17562"/>
                </a:cubicBezTo>
                <a:cubicBezTo>
                  <a:pt x="20761" y="17610"/>
                  <a:pt x="20770" y="17624"/>
                  <a:pt x="20762" y="17661"/>
                </a:cubicBezTo>
                <a:cubicBezTo>
                  <a:pt x="21000" y="17646"/>
                  <a:pt x="21194" y="17600"/>
                  <a:pt x="21431" y="17537"/>
                </a:cubicBezTo>
                <a:cubicBezTo>
                  <a:pt x="21813" y="17435"/>
                  <a:pt x="22192" y="17320"/>
                  <a:pt x="22572" y="17214"/>
                </a:cubicBezTo>
                <a:cubicBezTo>
                  <a:pt x="22944" y="17111"/>
                  <a:pt x="23332" y="17009"/>
                  <a:pt x="23713" y="16942"/>
                </a:cubicBezTo>
                <a:cubicBezTo>
                  <a:pt x="23841" y="16919"/>
                  <a:pt x="23970" y="16943"/>
                  <a:pt x="24036" y="16842"/>
                </a:cubicBezTo>
                <a:cubicBezTo>
                  <a:pt x="24103" y="16740"/>
                  <a:pt x="24102" y="16321"/>
                  <a:pt x="24110" y="16197"/>
                </a:cubicBezTo>
                <a:cubicBezTo>
                  <a:pt x="24110" y="16057"/>
                  <a:pt x="24110" y="16016"/>
                  <a:pt x="24110" y="15925"/>
                </a:cubicBezTo>
                <a:cubicBezTo>
                  <a:pt x="24035" y="15948"/>
                  <a:pt x="24093" y="15940"/>
                  <a:pt x="24011" y="15949"/>
                </a:cubicBezTo>
                <a:cubicBezTo>
                  <a:pt x="23945" y="15957"/>
                  <a:pt x="23881" y="15992"/>
                  <a:pt x="23812" y="15999"/>
                </a:cubicBezTo>
                <a:cubicBezTo>
                  <a:pt x="23725" y="16008"/>
                  <a:pt x="23675" y="16028"/>
                  <a:pt x="23589" y="16049"/>
                </a:cubicBezTo>
                <a:cubicBezTo>
                  <a:pt x="23530" y="16064"/>
                  <a:pt x="23394" y="16127"/>
                  <a:pt x="23341" y="16123"/>
                </a:cubicBezTo>
                <a:cubicBezTo>
                  <a:pt x="23243" y="16116"/>
                  <a:pt x="23195" y="16022"/>
                  <a:pt x="23118" y="15999"/>
                </a:cubicBezTo>
                <a:cubicBezTo>
                  <a:pt x="23039" y="15976"/>
                  <a:pt x="22944" y="16012"/>
                  <a:pt x="22870" y="16024"/>
                </a:cubicBezTo>
                <a:cubicBezTo>
                  <a:pt x="22772" y="16039"/>
                  <a:pt x="22670" y="16065"/>
                  <a:pt x="22572" y="16098"/>
                </a:cubicBezTo>
                <a:cubicBezTo>
                  <a:pt x="22398" y="16157"/>
                  <a:pt x="22226" y="16213"/>
                  <a:pt x="22051" y="16272"/>
                </a:cubicBezTo>
                <a:cubicBezTo>
                  <a:pt x="21850" y="16340"/>
                  <a:pt x="21653" y="16415"/>
                  <a:pt x="21456" y="16495"/>
                </a:cubicBezTo>
                <a:cubicBezTo>
                  <a:pt x="21346" y="16540"/>
                  <a:pt x="21232" y="16598"/>
                  <a:pt x="21134" y="16644"/>
                </a:cubicBezTo>
                <a:cubicBezTo>
                  <a:pt x="21078" y="16670"/>
                  <a:pt x="21017" y="16693"/>
                  <a:pt x="20960" y="16718"/>
                </a:cubicBezTo>
              </a:path>
              <a:path w="11138" h="1737">
                <a:moveTo>
                  <a:pt x="20563" y="16669"/>
                </a:moveTo>
                <a:cubicBezTo>
                  <a:pt x="20631" y="16574"/>
                  <a:pt x="20593" y="16616"/>
                  <a:pt x="20513" y="16570"/>
                </a:cubicBezTo>
                <a:cubicBezTo>
                  <a:pt x="20677" y="16469"/>
                  <a:pt x="20854" y="16392"/>
                  <a:pt x="21034" y="16321"/>
                </a:cubicBezTo>
                <a:cubicBezTo>
                  <a:pt x="21263" y="16230"/>
                  <a:pt x="21497" y="16221"/>
                  <a:pt x="21729" y="16148"/>
                </a:cubicBezTo>
                <a:cubicBezTo>
                  <a:pt x="21786" y="16129"/>
                  <a:pt x="21793" y="16120"/>
                  <a:pt x="21828" y="16123"/>
                </a:cubicBezTo>
              </a:path>
              <a:path w="11138" h="1737">
                <a:moveTo>
                  <a:pt x="21754" y="16173"/>
                </a:moveTo>
                <a:cubicBezTo>
                  <a:pt x="21889" y="16123"/>
                  <a:pt x="22033" y="16101"/>
                  <a:pt x="22175" y="16073"/>
                </a:cubicBezTo>
                <a:cubicBezTo>
                  <a:pt x="22349" y="16039"/>
                  <a:pt x="22519" y="16003"/>
                  <a:pt x="22696" y="15999"/>
                </a:cubicBezTo>
                <a:cubicBezTo>
                  <a:pt x="22818" y="15996"/>
                  <a:pt x="22922" y="16045"/>
                  <a:pt x="23044" y="16049"/>
                </a:cubicBezTo>
                <a:cubicBezTo>
                  <a:pt x="23152" y="16052"/>
                  <a:pt x="23241" y="16015"/>
                  <a:pt x="23341" y="15999"/>
                </a:cubicBezTo>
                <a:cubicBezTo>
                  <a:pt x="23395" y="15990"/>
                  <a:pt x="23460" y="15999"/>
                  <a:pt x="23515" y="15999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71800" y="6581880"/>
            <a:ext cx="71280" cy="268200"/>
          </a:xfrm>
          <a:custGeom>
            <a:avLst/>
            <a:gdLst/>
            <a:ahLst/>
            <a:rect l="l" t="t" r="r" b="b"/>
            <a:pathLst>
              <a:path w="199" h="745">
                <a:moveTo>
                  <a:pt x="5953" y="18281"/>
                </a:moveTo>
                <a:cubicBezTo>
                  <a:pt x="5901" y="18570"/>
                  <a:pt x="5963" y="18705"/>
                  <a:pt x="5755" y="18852"/>
                </a:cubicBezTo>
                <a:cubicBezTo>
                  <a:pt x="5889" y="18890"/>
                  <a:pt x="5879" y="18902"/>
                  <a:pt x="5879" y="19025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20920" y="64119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6449" y="17810"/>
                </a:moveTo>
                <a:lnTo>
                  <a:pt x="6449" y="17810"/>
                </a:ln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21080" y="3884760"/>
            <a:ext cx="2652840" cy="581040"/>
          </a:xfrm>
          <a:custGeom>
            <a:avLst/>
            <a:gdLst/>
            <a:ahLst/>
            <a:rect l="l" t="t" r="r" b="b"/>
            <a:pathLst>
              <a:path w="7368" h="1613">
                <a:moveTo>
                  <a:pt x="12005" y="11286"/>
                </a:moveTo>
                <a:cubicBezTo>
                  <a:pt x="12024" y="11540"/>
                  <a:pt x="12015" y="11775"/>
                  <a:pt x="12005" y="12030"/>
                </a:cubicBezTo>
                <a:cubicBezTo>
                  <a:pt x="11997" y="12225"/>
                  <a:pt x="11957" y="12284"/>
                  <a:pt x="12105" y="12353"/>
                </a:cubicBezTo>
                <a:cubicBezTo>
                  <a:pt x="12232" y="12412"/>
                  <a:pt x="12441" y="12400"/>
                  <a:pt x="12576" y="12402"/>
                </a:cubicBezTo>
                <a:cubicBezTo>
                  <a:pt x="12861" y="12407"/>
                  <a:pt x="13136" y="12378"/>
                  <a:pt x="13419" y="12353"/>
                </a:cubicBezTo>
                <a:cubicBezTo>
                  <a:pt x="14000" y="12302"/>
                  <a:pt x="14578" y="12253"/>
                  <a:pt x="15156" y="12179"/>
                </a:cubicBezTo>
                <a:cubicBezTo>
                  <a:pt x="15544" y="12130"/>
                  <a:pt x="15931" y="12089"/>
                  <a:pt x="16321" y="12055"/>
                </a:cubicBezTo>
                <a:cubicBezTo>
                  <a:pt x="16669" y="12025"/>
                  <a:pt x="17015" y="12003"/>
                  <a:pt x="17363" y="11981"/>
                </a:cubicBezTo>
                <a:cubicBezTo>
                  <a:pt x="17669" y="11962"/>
                  <a:pt x="17975" y="11935"/>
                  <a:pt x="18281" y="11931"/>
                </a:cubicBezTo>
                <a:cubicBezTo>
                  <a:pt x="18517" y="11928"/>
                  <a:pt x="19068" y="11958"/>
                  <a:pt x="19273" y="11832"/>
                </a:cubicBezTo>
                <a:cubicBezTo>
                  <a:pt x="19357" y="11780"/>
                  <a:pt x="19323" y="11686"/>
                  <a:pt x="19348" y="11584"/>
                </a:cubicBezTo>
                <a:cubicBezTo>
                  <a:pt x="19398" y="11380"/>
                  <a:pt x="19389" y="11122"/>
                  <a:pt x="19372" y="10914"/>
                </a:cubicBezTo>
                <a:cubicBezTo>
                  <a:pt x="19368" y="10867"/>
                  <a:pt x="19352" y="10835"/>
                  <a:pt x="19348" y="10790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30800" y="3857760"/>
            <a:ext cx="2616120" cy="258480"/>
          </a:xfrm>
          <a:custGeom>
            <a:avLst/>
            <a:gdLst/>
            <a:ahLst/>
            <a:rect l="l" t="t" r="r" b="b"/>
            <a:pathLst>
              <a:path w="7269" h="720">
                <a:moveTo>
                  <a:pt x="12030" y="11410"/>
                </a:moveTo>
                <a:cubicBezTo>
                  <a:pt x="12187" y="11427"/>
                  <a:pt x="12340" y="11435"/>
                  <a:pt x="12502" y="11435"/>
                </a:cubicBezTo>
                <a:cubicBezTo>
                  <a:pt x="12656" y="11435"/>
                  <a:pt x="12797" y="11418"/>
                  <a:pt x="12948" y="11410"/>
                </a:cubicBezTo>
                <a:cubicBezTo>
                  <a:pt x="13050" y="11405"/>
                  <a:pt x="13145" y="11398"/>
                  <a:pt x="13246" y="11385"/>
                </a:cubicBezTo>
                <a:cubicBezTo>
                  <a:pt x="13369" y="11369"/>
                  <a:pt x="13494" y="11352"/>
                  <a:pt x="13618" y="11336"/>
                </a:cubicBezTo>
                <a:cubicBezTo>
                  <a:pt x="13745" y="11320"/>
                  <a:pt x="13865" y="11283"/>
                  <a:pt x="13990" y="11261"/>
                </a:cubicBezTo>
                <a:cubicBezTo>
                  <a:pt x="14132" y="11237"/>
                  <a:pt x="14291" y="11200"/>
                  <a:pt x="14436" y="11187"/>
                </a:cubicBezTo>
                <a:cubicBezTo>
                  <a:pt x="14675" y="11166"/>
                  <a:pt x="14919" y="11153"/>
                  <a:pt x="15156" y="11112"/>
                </a:cubicBezTo>
                <a:cubicBezTo>
                  <a:pt x="15345" y="11079"/>
                  <a:pt x="15535" y="11081"/>
                  <a:pt x="15726" y="11063"/>
                </a:cubicBezTo>
                <a:cubicBezTo>
                  <a:pt x="16271" y="11012"/>
                  <a:pt x="16817" y="10900"/>
                  <a:pt x="17363" y="10864"/>
                </a:cubicBezTo>
                <a:cubicBezTo>
                  <a:pt x="17619" y="10847"/>
                  <a:pt x="17878" y="10827"/>
                  <a:pt x="18132" y="10790"/>
                </a:cubicBezTo>
                <a:cubicBezTo>
                  <a:pt x="18366" y="10756"/>
                  <a:pt x="18615" y="10744"/>
                  <a:pt x="18852" y="10740"/>
                </a:cubicBezTo>
                <a:cubicBezTo>
                  <a:pt x="18949" y="10738"/>
                  <a:pt x="19047" y="10740"/>
                  <a:pt x="19124" y="10740"/>
                </a:cubicBezTo>
                <a:cubicBezTo>
                  <a:pt x="19182" y="10740"/>
                  <a:pt x="19240" y="10740"/>
                  <a:pt x="19298" y="10740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day’s Objective:  Students will find the area of a composite fig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533520" y="182844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cabul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site - made up of more than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find the area of a composite figur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de the figure into figures you can find the area of (rectangles, triangles, or parallelogra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area of each of these fig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all the areas together to get a total area of the composite fig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day’s Objective:  Students will find the area of a composite fig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53352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’s Practice Together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2209680" y="2666880"/>
            <a:ext cx="4496040" cy="2667240"/>
            <a:chOff x="2209680" y="2666880"/>
            <a:chExt cx="4496040" cy="2667240"/>
          </a:xfrm>
        </p:grpSpPr>
        <p:grpSp>
          <p:nvGrpSpPr>
            <p:cNvPr id="68" name=""/>
            <p:cNvGrpSpPr/>
            <p:nvPr/>
          </p:nvGrpSpPr>
          <p:grpSpPr>
            <a:xfrm>
              <a:off x="5029200" y="2666880"/>
              <a:ext cx="1676520" cy="2667240"/>
              <a:chOff x="5029200" y="2666880"/>
              <a:chExt cx="1676520" cy="2667240"/>
            </a:xfrm>
          </p:grpSpPr>
          <p:sp>
            <p:nvSpPr>
              <p:cNvPr id="69" name=""/>
              <p:cNvSpPr/>
              <p:nvPr/>
            </p:nvSpPr>
            <p:spPr>
              <a:xfrm>
                <a:off x="5029200" y="2666880"/>
                <a:ext cx="1676520" cy="266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029200" y="5334120"/>
                <a:ext cx="16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" name=""/>
            <p:cNvSpPr/>
            <p:nvPr/>
          </p:nvSpPr>
          <p:spPr>
            <a:xfrm flipH="1">
              <a:off x="2209680" y="2666880"/>
              <a:ext cx="281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09680" y="2666880"/>
              <a:ext cx="0" cy="266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209680" y="5334120"/>
              <a:ext cx="289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2895480" y="2209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41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87200" y="5310360"/>
            <a:ext cx="79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6360" y="3657600"/>
            <a:ext cx="79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76760" y="1258920"/>
            <a:ext cx="5054400" cy="4376880"/>
          </a:xfrm>
          <a:custGeom>
            <a:avLst/>
            <a:gdLst/>
            <a:ahLst/>
            <a:rect l="l" t="t" r="r" b="b"/>
            <a:pathLst>
              <a:path w="14041" h="12156">
                <a:moveTo>
                  <a:pt x="13965" y="7417"/>
                </a:moveTo>
                <a:cubicBezTo>
                  <a:pt x="13971" y="7489"/>
                  <a:pt x="13998" y="7558"/>
                  <a:pt x="13990" y="7640"/>
                </a:cubicBezTo>
                <a:cubicBezTo>
                  <a:pt x="13979" y="7764"/>
                  <a:pt x="13965" y="7883"/>
                  <a:pt x="13965" y="8012"/>
                </a:cubicBezTo>
                <a:cubicBezTo>
                  <a:pt x="13965" y="8139"/>
                  <a:pt x="13983" y="8265"/>
                  <a:pt x="13990" y="8384"/>
                </a:cubicBezTo>
                <a:cubicBezTo>
                  <a:pt x="14000" y="8556"/>
                  <a:pt x="14006" y="8741"/>
                  <a:pt x="14015" y="8905"/>
                </a:cubicBezTo>
                <a:cubicBezTo>
                  <a:pt x="14021" y="9011"/>
                  <a:pt x="14023" y="9101"/>
                  <a:pt x="14039" y="9203"/>
                </a:cubicBezTo>
                <a:cubicBezTo>
                  <a:pt x="14055" y="9311"/>
                  <a:pt x="14053" y="9416"/>
                  <a:pt x="14064" y="9525"/>
                </a:cubicBezTo>
                <a:cubicBezTo>
                  <a:pt x="14075" y="9637"/>
                  <a:pt x="14096" y="9759"/>
                  <a:pt x="14114" y="9872"/>
                </a:cubicBezTo>
                <a:cubicBezTo>
                  <a:pt x="14135" y="10004"/>
                  <a:pt x="14147" y="10135"/>
                  <a:pt x="14163" y="10269"/>
                </a:cubicBezTo>
                <a:cubicBezTo>
                  <a:pt x="14181" y="10425"/>
                  <a:pt x="14206" y="10583"/>
                  <a:pt x="14213" y="10740"/>
                </a:cubicBezTo>
                <a:cubicBezTo>
                  <a:pt x="14219" y="10860"/>
                  <a:pt x="14232" y="10970"/>
                  <a:pt x="14238" y="11088"/>
                </a:cubicBezTo>
                <a:cubicBezTo>
                  <a:pt x="14255" y="11434"/>
                  <a:pt x="14249" y="11787"/>
                  <a:pt x="14263" y="12129"/>
                </a:cubicBezTo>
                <a:cubicBezTo>
                  <a:pt x="14274" y="12385"/>
                  <a:pt x="14275" y="12647"/>
                  <a:pt x="14288" y="12898"/>
                </a:cubicBezTo>
                <a:cubicBezTo>
                  <a:pt x="14294" y="13016"/>
                  <a:pt x="14307" y="13129"/>
                  <a:pt x="14312" y="13246"/>
                </a:cubicBezTo>
                <a:cubicBezTo>
                  <a:pt x="14316" y="13337"/>
                  <a:pt x="14332" y="13436"/>
                  <a:pt x="14337" y="13519"/>
                </a:cubicBezTo>
                <a:cubicBezTo>
                  <a:pt x="14346" y="13670"/>
                  <a:pt x="14341" y="13816"/>
                  <a:pt x="14362" y="13965"/>
                </a:cubicBezTo>
                <a:cubicBezTo>
                  <a:pt x="14377" y="14068"/>
                  <a:pt x="14385" y="14156"/>
                  <a:pt x="14387" y="14263"/>
                </a:cubicBezTo>
                <a:cubicBezTo>
                  <a:pt x="14388" y="14325"/>
                  <a:pt x="14390" y="14387"/>
                  <a:pt x="14387" y="14461"/>
                </a:cubicBezTo>
                <a:cubicBezTo>
                  <a:pt x="14383" y="14563"/>
                  <a:pt x="14396" y="14660"/>
                  <a:pt x="14412" y="14759"/>
                </a:cubicBezTo>
                <a:cubicBezTo>
                  <a:pt x="14419" y="14806"/>
                  <a:pt x="14428" y="14838"/>
                  <a:pt x="14436" y="14883"/>
                </a:cubicBezTo>
              </a:path>
              <a:path w="14041" h="12156">
                <a:moveTo>
                  <a:pt x="10492" y="15577"/>
                </a:moveTo>
                <a:cubicBezTo>
                  <a:pt x="10589" y="15589"/>
                  <a:pt x="10689" y="15621"/>
                  <a:pt x="10790" y="15627"/>
                </a:cubicBezTo>
                <a:cubicBezTo>
                  <a:pt x="10931" y="15635"/>
                  <a:pt x="11074" y="15644"/>
                  <a:pt x="11212" y="15652"/>
                </a:cubicBezTo>
                <a:cubicBezTo>
                  <a:pt x="11831" y="15687"/>
                  <a:pt x="12455" y="15627"/>
                  <a:pt x="13072" y="15627"/>
                </a:cubicBezTo>
                <a:cubicBezTo>
                  <a:pt x="13231" y="15627"/>
                  <a:pt x="13382" y="15602"/>
                  <a:pt x="13543" y="15602"/>
                </a:cubicBezTo>
                <a:cubicBezTo>
                  <a:pt x="14115" y="15602"/>
                  <a:pt x="14685" y="15627"/>
                  <a:pt x="15255" y="15627"/>
                </a:cubicBezTo>
                <a:cubicBezTo>
                  <a:pt x="15489" y="15627"/>
                  <a:pt x="15716" y="15606"/>
                  <a:pt x="15949" y="15602"/>
                </a:cubicBezTo>
                <a:cubicBezTo>
                  <a:pt x="16200" y="15598"/>
                  <a:pt x="16446" y="15610"/>
                  <a:pt x="16694" y="15627"/>
                </a:cubicBezTo>
                <a:cubicBezTo>
                  <a:pt x="17134" y="15657"/>
                  <a:pt x="17594" y="15652"/>
                  <a:pt x="18033" y="15652"/>
                </a:cubicBezTo>
                <a:cubicBezTo>
                  <a:pt x="18240" y="15652"/>
                  <a:pt x="18446" y="15652"/>
                  <a:pt x="18653" y="15652"/>
                </a:cubicBezTo>
              </a:path>
              <a:path w="14041" h="12156">
                <a:moveTo>
                  <a:pt x="13866" y="7392"/>
                </a:moveTo>
                <a:cubicBezTo>
                  <a:pt x="13866" y="7335"/>
                  <a:pt x="13858" y="7293"/>
                  <a:pt x="13891" y="7243"/>
                </a:cubicBezTo>
                <a:cubicBezTo>
                  <a:pt x="13907" y="7218"/>
                  <a:pt x="13838" y="7598"/>
                  <a:pt x="13816" y="7689"/>
                </a:cubicBezTo>
                <a:cubicBezTo>
                  <a:pt x="13868" y="7536"/>
                  <a:pt x="14073" y="7250"/>
                  <a:pt x="13915" y="7218"/>
                </a:cubicBezTo>
                <a:cubicBezTo>
                  <a:pt x="13820" y="7345"/>
                  <a:pt x="13788" y="7413"/>
                  <a:pt x="13791" y="7541"/>
                </a:cubicBezTo>
              </a:path>
              <a:path w="14041" h="12156">
                <a:moveTo>
                  <a:pt x="16991" y="7218"/>
                </a:moveTo>
                <a:cubicBezTo>
                  <a:pt x="16953" y="7388"/>
                  <a:pt x="16911" y="7857"/>
                  <a:pt x="16793" y="7764"/>
                </a:cubicBezTo>
                <a:cubicBezTo>
                  <a:pt x="16850" y="7528"/>
                  <a:pt x="16880" y="7164"/>
                  <a:pt x="17115" y="7020"/>
                </a:cubicBezTo>
                <a:cubicBezTo>
                  <a:pt x="17140" y="7020"/>
                  <a:pt x="17165" y="7020"/>
                  <a:pt x="17190" y="7020"/>
                </a:cubicBezTo>
                <a:cubicBezTo>
                  <a:pt x="17290" y="7290"/>
                  <a:pt x="17323" y="7506"/>
                  <a:pt x="17214" y="7789"/>
                </a:cubicBezTo>
                <a:cubicBezTo>
                  <a:pt x="17206" y="7797"/>
                  <a:pt x="17198" y="7805"/>
                  <a:pt x="17190" y="7813"/>
                </a:cubicBezTo>
              </a:path>
              <a:path w="14041" h="12156">
                <a:moveTo>
                  <a:pt x="16892" y="7565"/>
                </a:moveTo>
                <a:cubicBezTo>
                  <a:pt x="17038" y="7511"/>
                  <a:pt x="17162" y="7474"/>
                  <a:pt x="17314" y="7441"/>
                </a:cubicBezTo>
              </a:path>
              <a:path w="14041" h="12156">
                <a:moveTo>
                  <a:pt x="17636" y="7392"/>
                </a:moveTo>
                <a:cubicBezTo>
                  <a:pt x="17729" y="7383"/>
                  <a:pt x="17814" y="7372"/>
                  <a:pt x="17909" y="7367"/>
                </a:cubicBezTo>
              </a:path>
              <a:path w="14041" h="12156">
                <a:moveTo>
                  <a:pt x="17537" y="7590"/>
                </a:moveTo>
                <a:cubicBezTo>
                  <a:pt x="17669" y="7590"/>
                  <a:pt x="17802" y="7590"/>
                  <a:pt x="17934" y="7590"/>
                </a:cubicBezTo>
              </a:path>
              <a:path w="14041" h="12156">
                <a:moveTo>
                  <a:pt x="18703" y="6821"/>
                </a:moveTo>
                <a:cubicBezTo>
                  <a:pt x="18719" y="7038"/>
                  <a:pt x="18728" y="7248"/>
                  <a:pt x="18728" y="7466"/>
                </a:cubicBezTo>
                <a:cubicBezTo>
                  <a:pt x="18755" y="7495"/>
                  <a:pt x="18780" y="7228"/>
                  <a:pt x="18926" y="7144"/>
                </a:cubicBezTo>
                <a:cubicBezTo>
                  <a:pt x="19143" y="7019"/>
                  <a:pt x="19218" y="7296"/>
                  <a:pt x="19149" y="7441"/>
                </a:cubicBezTo>
                <a:cubicBezTo>
                  <a:pt x="19056" y="7638"/>
                  <a:pt x="18877" y="7553"/>
                  <a:pt x="18728" y="7491"/>
                </a:cubicBezTo>
              </a:path>
              <a:path w="14041" h="12156">
                <a:moveTo>
                  <a:pt x="19273" y="6896"/>
                </a:moveTo>
                <a:cubicBezTo>
                  <a:pt x="19315" y="7065"/>
                  <a:pt x="19344" y="7213"/>
                  <a:pt x="19348" y="7392"/>
                </a:cubicBezTo>
                <a:cubicBezTo>
                  <a:pt x="19348" y="7433"/>
                  <a:pt x="19348" y="7475"/>
                  <a:pt x="19348" y="7516"/>
                </a:cubicBezTo>
                <a:cubicBezTo>
                  <a:pt x="19348" y="7378"/>
                  <a:pt x="19339" y="7292"/>
                  <a:pt x="19447" y="7193"/>
                </a:cubicBezTo>
                <a:cubicBezTo>
                  <a:pt x="19551" y="7097"/>
                  <a:pt x="19689" y="7097"/>
                  <a:pt x="19745" y="7243"/>
                </a:cubicBezTo>
                <a:cubicBezTo>
                  <a:pt x="19783" y="7343"/>
                  <a:pt x="19772" y="7422"/>
                  <a:pt x="19745" y="7516"/>
                </a:cubicBezTo>
              </a:path>
              <a:path w="14041" h="12156">
                <a:moveTo>
                  <a:pt x="18653" y="7714"/>
                </a:moveTo>
                <a:cubicBezTo>
                  <a:pt x="18952" y="7714"/>
                  <a:pt x="19252" y="7703"/>
                  <a:pt x="19546" y="7739"/>
                </a:cubicBezTo>
                <a:cubicBezTo>
                  <a:pt x="19554" y="7739"/>
                  <a:pt x="19563" y="7739"/>
                  <a:pt x="19571" y="7739"/>
                </a:cubicBezTo>
              </a:path>
              <a:path w="14041" h="12156">
                <a:moveTo>
                  <a:pt x="19000" y="8111"/>
                </a:moveTo>
                <a:cubicBezTo>
                  <a:pt x="19031" y="8051"/>
                  <a:pt x="19123" y="7958"/>
                  <a:pt x="19224" y="7987"/>
                </a:cubicBezTo>
                <a:cubicBezTo>
                  <a:pt x="19232" y="7995"/>
                  <a:pt x="19240" y="8004"/>
                  <a:pt x="19248" y="8012"/>
                </a:cubicBezTo>
                <a:cubicBezTo>
                  <a:pt x="19237" y="8137"/>
                  <a:pt x="19181" y="8183"/>
                  <a:pt x="19075" y="8260"/>
                </a:cubicBezTo>
                <a:cubicBezTo>
                  <a:pt x="18981" y="8328"/>
                  <a:pt x="18880" y="8366"/>
                  <a:pt x="18802" y="8458"/>
                </a:cubicBezTo>
                <a:cubicBezTo>
                  <a:pt x="18752" y="8517"/>
                  <a:pt x="18715" y="8590"/>
                  <a:pt x="18678" y="8657"/>
                </a:cubicBezTo>
                <a:cubicBezTo>
                  <a:pt x="18726" y="8591"/>
                  <a:pt x="18847" y="8361"/>
                  <a:pt x="18951" y="8434"/>
                </a:cubicBezTo>
                <a:cubicBezTo>
                  <a:pt x="19102" y="8539"/>
                  <a:pt x="19113" y="8565"/>
                  <a:pt x="19298" y="8508"/>
                </a:cubicBezTo>
              </a:path>
              <a:path w="14041" h="12156">
                <a:moveTo>
                  <a:pt x="16966" y="9079"/>
                </a:moveTo>
                <a:cubicBezTo>
                  <a:pt x="16966" y="9230"/>
                  <a:pt x="16929" y="9403"/>
                  <a:pt x="16892" y="9550"/>
                </a:cubicBezTo>
                <a:cubicBezTo>
                  <a:pt x="16884" y="9566"/>
                  <a:pt x="16875" y="9583"/>
                  <a:pt x="16867" y="9599"/>
                </a:cubicBezTo>
                <a:cubicBezTo>
                  <a:pt x="16877" y="9412"/>
                  <a:pt x="16883" y="9155"/>
                  <a:pt x="17016" y="9004"/>
                </a:cubicBezTo>
                <a:cubicBezTo>
                  <a:pt x="17141" y="8862"/>
                  <a:pt x="17308" y="9021"/>
                  <a:pt x="17338" y="9153"/>
                </a:cubicBezTo>
                <a:cubicBezTo>
                  <a:pt x="17371" y="9300"/>
                  <a:pt x="17310" y="9457"/>
                  <a:pt x="17289" y="9599"/>
                </a:cubicBezTo>
              </a:path>
              <a:path w="14041" h="12156">
                <a:moveTo>
                  <a:pt x="16892" y="9426"/>
                </a:moveTo>
                <a:cubicBezTo>
                  <a:pt x="17072" y="9359"/>
                  <a:pt x="17268" y="9323"/>
                  <a:pt x="17462" y="9302"/>
                </a:cubicBezTo>
                <a:cubicBezTo>
                  <a:pt x="17487" y="9302"/>
                  <a:pt x="17512" y="9302"/>
                  <a:pt x="17537" y="9302"/>
                </a:cubicBezTo>
              </a:path>
              <a:path w="14041" h="12156">
                <a:moveTo>
                  <a:pt x="17760" y="9302"/>
                </a:moveTo>
                <a:cubicBezTo>
                  <a:pt x="17843" y="9285"/>
                  <a:pt x="17926" y="9275"/>
                  <a:pt x="18008" y="9252"/>
                </a:cubicBezTo>
              </a:path>
              <a:path w="14041" h="12156">
                <a:moveTo>
                  <a:pt x="17711" y="9475"/>
                </a:moveTo>
                <a:cubicBezTo>
                  <a:pt x="17824" y="9456"/>
                  <a:pt x="17926" y="9440"/>
                  <a:pt x="18033" y="9401"/>
                </a:cubicBezTo>
              </a:path>
              <a:path w="14041" h="12156">
                <a:moveTo>
                  <a:pt x="21654" y="3597"/>
                </a:moveTo>
                <a:cubicBezTo>
                  <a:pt x="21615" y="3821"/>
                  <a:pt x="21575" y="4043"/>
                  <a:pt x="21530" y="4266"/>
                </a:cubicBezTo>
              </a:path>
              <a:path w="14041" h="12156">
                <a:moveTo>
                  <a:pt x="21927" y="3522"/>
                </a:moveTo>
                <a:cubicBezTo>
                  <a:pt x="22153" y="3534"/>
                  <a:pt x="22413" y="3699"/>
                  <a:pt x="22275" y="3994"/>
                </a:cubicBezTo>
                <a:cubicBezTo>
                  <a:pt x="22177" y="4204"/>
                  <a:pt x="22015" y="4176"/>
                  <a:pt x="21853" y="4142"/>
                </a:cubicBezTo>
                <a:cubicBezTo>
                  <a:pt x="21911" y="3925"/>
                  <a:pt x="22011" y="3955"/>
                  <a:pt x="22175" y="4118"/>
                </a:cubicBezTo>
                <a:cubicBezTo>
                  <a:pt x="22200" y="4151"/>
                  <a:pt x="22225" y="4184"/>
                  <a:pt x="22250" y="4217"/>
                </a:cubicBezTo>
              </a:path>
              <a:path w="14041" h="12156">
                <a:moveTo>
                  <a:pt x="22671" y="3547"/>
                </a:moveTo>
                <a:cubicBezTo>
                  <a:pt x="22441" y="3820"/>
                  <a:pt x="22338" y="3974"/>
                  <a:pt x="22547" y="4266"/>
                </a:cubicBezTo>
                <a:cubicBezTo>
                  <a:pt x="22712" y="4198"/>
                  <a:pt x="23150" y="3950"/>
                  <a:pt x="22845" y="3696"/>
                </a:cubicBezTo>
                <a:cubicBezTo>
                  <a:pt x="22779" y="3679"/>
                  <a:pt x="22713" y="3663"/>
                  <a:pt x="22647" y="3646"/>
                </a:cubicBezTo>
              </a:path>
              <a:path w="14041" h="12156">
                <a:moveTo>
                  <a:pt x="21109" y="4837"/>
                </a:moveTo>
                <a:cubicBezTo>
                  <a:pt x="21109" y="4911"/>
                  <a:pt x="21109" y="4986"/>
                  <a:pt x="21109" y="5060"/>
                </a:cubicBezTo>
              </a:path>
              <a:path w="14041" h="12156">
                <a:moveTo>
                  <a:pt x="20836" y="4837"/>
                </a:moveTo>
                <a:cubicBezTo>
                  <a:pt x="21034" y="4804"/>
                  <a:pt x="21133" y="4787"/>
                  <a:pt x="21282" y="4762"/>
                </a:cubicBezTo>
              </a:path>
              <a:path w="14041" h="12156">
                <a:moveTo>
                  <a:pt x="22200" y="4539"/>
                </a:moveTo>
                <a:cubicBezTo>
                  <a:pt x="22275" y="4482"/>
                  <a:pt x="22525" y="4321"/>
                  <a:pt x="22423" y="4589"/>
                </a:cubicBezTo>
                <a:cubicBezTo>
                  <a:pt x="22322" y="4715"/>
                  <a:pt x="22287" y="4757"/>
                  <a:pt x="22175" y="4787"/>
                </a:cubicBezTo>
                <a:cubicBezTo>
                  <a:pt x="22159" y="4795"/>
                  <a:pt x="22142" y="4804"/>
                  <a:pt x="22126" y="4812"/>
                </a:cubicBezTo>
                <a:cubicBezTo>
                  <a:pt x="22297" y="4734"/>
                  <a:pt x="22345" y="4756"/>
                  <a:pt x="22523" y="4762"/>
                </a:cubicBezTo>
                <a:cubicBezTo>
                  <a:pt x="22491" y="5021"/>
                  <a:pt x="22332" y="5031"/>
                  <a:pt x="22076" y="5060"/>
                </a:cubicBezTo>
              </a:path>
              <a:path w="14041" h="12156">
                <a:moveTo>
                  <a:pt x="22572" y="4738"/>
                </a:moveTo>
                <a:cubicBezTo>
                  <a:pt x="22572" y="4906"/>
                  <a:pt x="22651" y="5310"/>
                  <a:pt x="22895" y="4986"/>
                </a:cubicBezTo>
                <a:cubicBezTo>
                  <a:pt x="23034" y="4802"/>
                  <a:pt x="22912" y="4726"/>
                  <a:pt x="22796" y="4638"/>
                </a:cubicBezTo>
              </a:path>
              <a:path w="14041" h="12156">
                <a:moveTo>
                  <a:pt x="21332" y="5308"/>
                </a:moveTo>
                <a:cubicBezTo>
                  <a:pt x="21862" y="5287"/>
                  <a:pt x="22388" y="5239"/>
                  <a:pt x="22920" y="5234"/>
                </a:cubicBezTo>
                <a:cubicBezTo>
                  <a:pt x="23060" y="5234"/>
                  <a:pt x="23069" y="5234"/>
                  <a:pt x="23143" y="5234"/>
                </a:cubicBezTo>
              </a:path>
              <a:path w="14041" h="12156">
                <a:moveTo>
                  <a:pt x="21382" y="5953"/>
                </a:moveTo>
                <a:cubicBezTo>
                  <a:pt x="21269" y="6179"/>
                  <a:pt x="21249" y="6418"/>
                  <a:pt x="21208" y="6672"/>
                </a:cubicBezTo>
              </a:path>
              <a:path w="14041" h="12156">
                <a:moveTo>
                  <a:pt x="22051" y="5755"/>
                </a:moveTo>
                <a:cubicBezTo>
                  <a:pt x="21902" y="5867"/>
                  <a:pt x="21634" y="5935"/>
                  <a:pt x="21605" y="6102"/>
                </a:cubicBezTo>
                <a:cubicBezTo>
                  <a:pt x="21605" y="6220"/>
                  <a:pt x="21619" y="6241"/>
                  <a:pt x="21580" y="6300"/>
                </a:cubicBezTo>
                <a:cubicBezTo>
                  <a:pt x="21855" y="6158"/>
                  <a:pt x="21995" y="6041"/>
                  <a:pt x="22200" y="6276"/>
                </a:cubicBezTo>
                <a:cubicBezTo>
                  <a:pt x="22059" y="6583"/>
                  <a:pt x="21980" y="6624"/>
                  <a:pt x="21654" y="6524"/>
                </a:cubicBezTo>
              </a:path>
              <a:path w="14041" h="12156">
                <a:moveTo>
                  <a:pt x="22349" y="5904"/>
                </a:moveTo>
                <a:cubicBezTo>
                  <a:pt x="22271" y="6192"/>
                  <a:pt x="22245" y="6260"/>
                  <a:pt x="22349" y="6524"/>
                </a:cubicBezTo>
                <a:cubicBezTo>
                  <a:pt x="22613" y="6471"/>
                  <a:pt x="22858" y="6318"/>
                  <a:pt x="22771" y="5978"/>
                </a:cubicBezTo>
                <a:cubicBezTo>
                  <a:pt x="22662" y="5815"/>
                  <a:pt x="22613" y="5762"/>
                  <a:pt x="22448" y="5779"/>
                </a:cubicBezTo>
              </a:path>
              <a:path w="14041" h="12156">
                <a:moveTo>
                  <a:pt x="22870" y="6226"/>
                </a:moveTo>
                <a:cubicBezTo>
                  <a:pt x="22893" y="6384"/>
                  <a:pt x="22898" y="6426"/>
                  <a:pt x="22920" y="6524"/>
                </a:cubicBezTo>
                <a:cubicBezTo>
                  <a:pt x="22920" y="6633"/>
                  <a:pt x="22989" y="6246"/>
                  <a:pt x="23019" y="6201"/>
                </a:cubicBezTo>
                <a:cubicBezTo>
                  <a:pt x="23167" y="5984"/>
                  <a:pt x="23255" y="6351"/>
                  <a:pt x="23292" y="6424"/>
                </a:cubicBezTo>
                <a:cubicBezTo>
                  <a:pt x="23270" y="6734"/>
                  <a:pt x="23289" y="6259"/>
                  <a:pt x="23366" y="6152"/>
                </a:cubicBezTo>
                <a:cubicBezTo>
                  <a:pt x="23595" y="5836"/>
                  <a:pt x="23630" y="6351"/>
                  <a:pt x="23639" y="6474"/>
                </a:cubicBezTo>
              </a:path>
              <a:path w="14041" h="12156">
                <a:moveTo>
                  <a:pt x="23639" y="5631"/>
                </a:moveTo>
                <a:cubicBezTo>
                  <a:pt x="23735" y="5636"/>
                  <a:pt x="23803" y="5638"/>
                  <a:pt x="23887" y="5680"/>
                </a:cubicBezTo>
                <a:cubicBezTo>
                  <a:pt x="23820" y="5842"/>
                  <a:pt x="23721" y="5920"/>
                  <a:pt x="23614" y="6052"/>
                </a:cubicBezTo>
                <a:cubicBezTo>
                  <a:pt x="23768" y="6074"/>
                  <a:pt x="23881" y="6040"/>
                  <a:pt x="24036" y="6003"/>
                </a:cubicBezTo>
              </a:path>
              <a:path w="14041" h="12156">
                <a:moveTo>
                  <a:pt x="21134" y="7119"/>
                </a:moveTo>
                <a:cubicBezTo>
                  <a:pt x="21349" y="7126"/>
                  <a:pt x="21564" y="7132"/>
                  <a:pt x="21779" y="7144"/>
                </a:cubicBezTo>
                <a:cubicBezTo>
                  <a:pt x="22189" y="7167"/>
                  <a:pt x="22585" y="7174"/>
                  <a:pt x="22994" y="7144"/>
                </a:cubicBezTo>
                <a:cubicBezTo>
                  <a:pt x="23342" y="7118"/>
                  <a:pt x="23688" y="7117"/>
                  <a:pt x="24011" y="6970"/>
                </a:cubicBezTo>
                <a:cubicBezTo>
                  <a:pt x="24157" y="6904"/>
                  <a:pt x="24296" y="6755"/>
                  <a:pt x="24383" y="6623"/>
                </a:cubicBezTo>
                <a:cubicBezTo>
                  <a:pt x="24481" y="6474"/>
                  <a:pt x="24525" y="6326"/>
                  <a:pt x="24532" y="6152"/>
                </a:cubicBezTo>
                <a:cubicBezTo>
                  <a:pt x="24538" y="6019"/>
                  <a:pt x="24533" y="5924"/>
                  <a:pt x="24482" y="5804"/>
                </a:cubicBezTo>
                <a:cubicBezTo>
                  <a:pt x="24449" y="5726"/>
                  <a:pt x="24411" y="5646"/>
                  <a:pt x="24358" y="5581"/>
                </a:cubicBezTo>
                <a:cubicBezTo>
                  <a:pt x="24273" y="5478"/>
                  <a:pt x="24223" y="5429"/>
                  <a:pt x="24110" y="5358"/>
                </a:cubicBezTo>
                <a:cubicBezTo>
                  <a:pt x="24003" y="5291"/>
                  <a:pt x="23885" y="5242"/>
                  <a:pt x="23763" y="5209"/>
                </a:cubicBezTo>
                <a:cubicBezTo>
                  <a:pt x="23597" y="5164"/>
                  <a:pt x="23386" y="5128"/>
                  <a:pt x="23217" y="5135"/>
                </a:cubicBezTo>
                <a:cubicBezTo>
                  <a:pt x="23041" y="5142"/>
                  <a:pt x="22843" y="5168"/>
                  <a:pt x="22671" y="5209"/>
                </a:cubicBezTo>
                <a:cubicBezTo>
                  <a:pt x="22463" y="5259"/>
                  <a:pt x="22260" y="5315"/>
                  <a:pt x="22051" y="5358"/>
                </a:cubicBezTo>
                <a:cubicBezTo>
                  <a:pt x="21738" y="5422"/>
                  <a:pt x="21310" y="5418"/>
                  <a:pt x="21034" y="5581"/>
                </a:cubicBezTo>
                <a:cubicBezTo>
                  <a:pt x="20898" y="5661"/>
                  <a:pt x="20705" y="5776"/>
                  <a:pt x="20638" y="5928"/>
                </a:cubicBezTo>
                <a:cubicBezTo>
                  <a:pt x="20581" y="6058"/>
                  <a:pt x="20571" y="6260"/>
                  <a:pt x="20588" y="6400"/>
                </a:cubicBezTo>
                <a:cubicBezTo>
                  <a:pt x="20605" y="6546"/>
                  <a:pt x="20693" y="6661"/>
                  <a:pt x="20811" y="6747"/>
                </a:cubicBezTo>
                <a:cubicBezTo>
                  <a:pt x="20893" y="6807"/>
                  <a:pt x="20975" y="6865"/>
                  <a:pt x="21059" y="6921"/>
                </a:cubicBezTo>
                <a:cubicBezTo>
                  <a:pt x="21162" y="6990"/>
                  <a:pt x="21256" y="7018"/>
                  <a:pt x="21382" y="7045"/>
                </a:cubicBezTo>
                <a:cubicBezTo>
                  <a:pt x="21520" y="7075"/>
                  <a:pt x="21642" y="7079"/>
                  <a:pt x="21779" y="7094"/>
                </a:cubicBezTo>
                <a:cubicBezTo>
                  <a:pt x="21878" y="7105"/>
                  <a:pt x="21972" y="7115"/>
                  <a:pt x="22076" y="7119"/>
                </a:cubicBezTo>
                <a:cubicBezTo>
                  <a:pt x="22084" y="7119"/>
                  <a:pt x="22093" y="7119"/>
                  <a:pt x="22101" y="7119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16080" y="2581200"/>
            <a:ext cx="98640" cy="500040"/>
          </a:xfrm>
          <a:custGeom>
            <a:avLst/>
            <a:gdLst/>
            <a:ahLst/>
            <a:rect l="l" t="t" r="r" b="b"/>
            <a:pathLst>
              <a:path w="274" h="1390">
                <a:moveTo>
                  <a:pt x="6028" y="8483"/>
                </a:moveTo>
                <a:lnTo>
                  <a:pt x="6028" y="8483"/>
                </a:lnTo>
              </a:path>
              <a:path w="274" h="1390">
                <a:moveTo>
                  <a:pt x="5978" y="7218"/>
                </a:moveTo>
                <a:cubicBezTo>
                  <a:pt x="6102" y="7148"/>
                  <a:pt x="6091" y="7247"/>
                  <a:pt x="6102" y="7392"/>
                </a:cubicBezTo>
                <a:cubicBezTo>
                  <a:pt x="6125" y="7678"/>
                  <a:pt x="6115" y="7559"/>
                  <a:pt x="6127" y="7342"/>
                </a:cubicBezTo>
                <a:cubicBezTo>
                  <a:pt x="6151" y="6920"/>
                  <a:pt x="6131" y="7439"/>
                  <a:pt x="6127" y="7541"/>
                </a:cubicBezTo>
              </a:path>
              <a:path w="274" h="1390">
                <a:moveTo>
                  <a:pt x="5879" y="8558"/>
                </a:moveTo>
                <a:lnTo>
                  <a:pt x="5879" y="8558"/>
                </a:ln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741760" y="2268360"/>
            <a:ext cx="1098360" cy="438480"/>
          </a:xfrm>
          <a:custGeom>
            <a:avLst/>
            <a:gdLst/>
            <a:ahLst/>
            <a:rect l="l" t="t" r="r" b="b"/>
            <a:pathLst>
              <a:path w="3052" h="1217">
                <a:moveTo>
                  <a:pt x="7689" y="6747"/>
                </a:moveTo>
                <a:cubicBezTo>
                  <a:pt x="7693" y="6833"/>
                  <a:pt x="7697" y="6912"/>
                  <a:pt x="7714" y="6995"/>
                </a:cubicBezTo>
                <a:cubicBezTo>
                  <a:pt x="7739" y="7115"/>
                  <a:pt x="7806" y="7189"/>
                  <a:pt x="7888" y="7268"/>
                </a:cubicBezTo>
                <a:cubicBezTo>
                  <a:pt x="7976" y="7352"/>
                  <a:pt x="8119" y="7404"/>
                  <a:pt x="8235" y="7441"/>
                </a:cubicBezTo>
                <a:cubicBezTo>
                  <a:pt x="8383" y="7488"/>
                  <a:pt x="8553" y="7466"/>
                  <a:pt x="8706" y="7466"/>
                </a:cubicBezTo>
                <a:cubicBezTo>
                  <a:pt x="8824" y="7466"/>
                  <a:pt x="8937" y="7506"/>
                  <a:pt x="9054" y="7516"/>
                </a:cubicBezTo>
                <a:cubicBezTo>
                  <a:pt x="9207" y="7529"/>
                  <a:pt x="9351" y="7501"/>
                  <a:pt x="9500" y="7491"/>
                </a:cubicBezTo>
                <a:cubicBezTo>
                  <a:pt x="9706" y="7477"/>
                  <a:pt x="9916" y="7480"/>
                  <a:pt x="10120" y="7466"/>
                </a:cubicBezTo>
                <a:cubicBezTo>
                  <a:pt x="10274" y="7455"/>
                  <a:pt x="10370" y="7416"/>
                  <a:pt x="10492" y="7317"/>
                </a:cubicBezTo>
                <a:cubicBezTo>
                  <a:pt x="10577" y="7248"/>
                  <a:pt x="10648" y="7102"/>
                  <a:pt x="10666" y="6995"/>
                </a:cubicBezTo>
                <a:cubicBezTo>
                  <a:pt x="10684" y="6888"/>
                  <a:pt x="10649" y="6796"/>
                  <a:pt x="10616" y="6697"/>
                </a:cubicBezTo>
                <a:cubicBezTo>
                  <a:pt x="10590" y="6619"/>
                  <a:pt x="10563" y="6525"/>
                  <a:pt x="10492" y="6474"/>
                </a:cubicBezTo>
                <a:cubicBezTo>
                  <a:pt x="10421" y="6423"/>
                  <a:pt x="10350" y="6422"/>
                  <a:pt x="10269" y="6400"/>
                </a:cubicBezTo>
                <a:cubicBezTo>
                  <a:pt x="10153" y="6368"/>
                  <a:pt x="10040" y="6381"/>
                  <a:pt x="9922" y="6350"/>
                </a:cubicBezTo>
                <a:cubicBezTo>
                  <a:pt x="9819" y="6323"/>
                  <a:pt x="9726" y="6342"/>
                  <a:pt x="9624" y="6325"/>
                </a:cubicBezTo>
                <a:cubicBezTo>
                  <a:pt x="9507" y="6305"/>
                  <a:pt x="9422" y="6318"/>
                  <a:pt x="9302" y="6325"/>
                </a:cubicBezTo>
                <a:cubicBezTo>
                  <a:pt x="9143" y="6334"/>
                  <a:pt x="8987" y="6337"/>
                  <a:pt x="8830" y="6350"/>
                </a:cubicBezTo>
                <a:cubicBezTo>
                  <a:pt x="8745" y="6357"/>
                  <a:pt x="8664" y="6366"/>
                  <a:pt x="8582" y="6375"/>
                </a:cubicBezTo>
                <a:cubicBezTo>
                  <a:pt x="8465" y="6388"/>
                  <a:pt x="8351" y="6398"/>
                  <a:pt x="8235" y="6424"/>
                </a:cubicBezTo>
                <a:cubicBezTo>
                  <a:pt x="8177" y="6437"/>
                  <a:pt x="8093" y="6432"/>
                  <a:pt x="8037" y="6449"/>
                </a:cubicBezTo>
                <a:cubicBezTo>
                  <a:pt x="7963" y="6472"/>
                  <a:pt x="7883" y="6516"/>
                  <a:pt x="7813" y="6548"/>
                </a:cubicBezTo>
                <a:cubicBezTo>
                  <a:pt x="7738" y="6583"/>
                  <a:pt x="7673" y="6642"/>
                  <a:pt x="7640" y="6722"/>
                </a:cubicBezTo>
                <a:cubicBezTo>
                  <a:pt x="7606" y="6804"/>
                  <a:pt x="7622" y="6845"/>
                  <a:pt x="7640" y="6921"/>
                </a:cubicBezTo>
                <a:cubicBezTo>
                  <a:pt x="7658" y="6999"/>
                  <a:pt x="7695" y="7034"/>
                  <a:pt x="7764" y="7094"/>
                </a:cubicBezTo>
                <a:cubicBezTo>
                  <a:pt x="7780" y="7102"/>
                  <a:pt x="7797" y="7111"/>
                  <a:pt x="7813" y="7119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40000" y="3178080"/>
            <a:ext cx="1027080" cy="331920"/>
          </a:xfrm>
          <a:custGeom>
            <a:avLst/>
            <a:gdLst/>
            <a:ahLst/>
            <a:rect l="l" t="t" r="r" b="b"/>
            <a:pathLst>
              <a:path w="2853" h="919">
                <a:moveTo>
                  <a:pt x="6747" y="8930"/>
                </a:moveTo>
                <a:cubicBezTo>
                  <a:pt x="6678" y="9122"/>
                  <a:pt x="6604" y="9299"/>
                  <a:pt x="6499" y="9475"/>
                </a:cubicBezTo>
                <a:cubicBezTo>
                  <a:pt x="6593" y="9245"/>
                  <a:pt x="6702" y="9077"/>
                  <a:pt x="6846" y="8880"/>
                </a:cubicBezTo>
                <a:cubicBezTo>
                  <a:pt x="6854" y="8863"/>
                  <a:pt x="6863" y="8847"/>
                  <a:pt x="6871" y="8830"/>
                </a:cubicBezTo>
                <a:cubicBezTo>
                  <a:pt x="6994" y="8936"/>
                  <a:pt x="6944" y="9075"/>
                  <a:pt x="6896" y="9227"/>
                </a:cubicBezTo>
                <a:cubicBezTo>
                  <a:pt x="6834" y="9392"/>
                  <a:pt x="6818" y="9422"/>
                  <a:pt x="6796" y="9525"/>
                </a:cubicBezTo>
              </a:path>
              <a:path w="2853" h="919">
                <a:moveTo>
                  <a:pt x="6573" y="9252"/>
                </a:moveTo>
                <a:cubicBezTo>
                  <a:pt x="6672" y="9222"/>
                  <a:pt x="6769" y="9199"/>
                  <a:pt x="6871" y="9178"/>
                </a:cubicBezTo>
              </a:path>
              <a:path w="2853" h="919">
                <a:moveTo>
                  <a:pt x="7218" y="9203"/>
                </a:moveTo>
                <a:cubicBezTo>
                  <a:pt x="7326" y="9203"/>
                  <a:pt x="7351" y="9203"/>
                  <a:pt x="7417" y="9203"/>
                </a:cubicBezTo>
              </a:path>
              <a:path w="2853" h="919">
                <a:moveTo>
                  <a:pt x="7119" y="9376"/>
                </a:moveTo>
                <a:cubicBezTo>
                  <a:pt x="7211" y="9371"/>
                  <a:pt x="7300" y="9359"/>
                  <a:pt x="7392" y="9351"/>
                </a:cubicBezTo>
              </a:path>
              <a:path w="2853" h="919">
                <a:moveTo>
                  <a:pt x="7838" y="9004"/>
                </a:moveTo>
                <a:cubicBezTo>
                  <a:pt x="7767" y="9188"/>
                  <a:pt x="7698" y="9371"/>
                  <a:pt x="7615" y="9550"/>
                </a:cubicBezTo>
              </a:path>
              <a:path w="2853" h="919">
                <a:moveTo>
                  <a:pt x="8682" y="8905"/>
                </a:moveTo>
                <a:cubicBezTo>
                  <a:pt x="8536" y="9002"/>
                  <a:pt x="8427" y="9164"/>
                  <a:pt x="8359" y="9327"/>
                </a:cubicBezTo>
                <a:cubicBezTo>
                  <a:pt x="8308" y="9449"/>
                  <a:pt x="8267" y="9633"/>
                  <a:pt x="8409" y="9674"/>
                </a:cubicBezTo>
              </a:path>
              <a:path w="2853" h="919">
                <a:moveTo>
                  <a:pt x="8756" y="9054"/>
                </a:moveTo>
                <a:cubicBezTo>
                  <a:pt x="8783" y="9200"/>
                  <a:pt x="8732" y="9330"/>
                  <a:pt x="8682" y="9475"/>
                </a:cubicBezTo>
              </a:path>
              <a:path w="2853" h="919">
                <a:moveTo>
                  <a:pt x="9054" y="9153"/>
                </a:moveTo>
                <a:cubicBezTo>
                  <a:pt x="8945" y="9273"/>
                  <a:pt x="8895" y="9337"/>
                  <a:pt x="8880" y="9500"/>
                </a:cubicBezTo>
                <a:cubicBezTo>
                  <a:pt x="9008" y="9462"/>
                  <a:pt x="9152" y="9343"/>
                  <a:pt x="9103" y="9178"/>
                </a:cubicBezTo>
                <a:cubicBezTo>
                  <a:pt x="9087" y="9170"/>
                  <a:pt x="9070" y="9161"/>
                  <a:pt x="9054" y="9153"/>
                </a:cubicBezTo>
              </a:path>
              <a:path w="2853" h="919">
                <a:moveTo>
                  <a:pt x="9203" y="8905"/>
                </a:moveTo>
                <a:cubicBezTo>
                  <a:pt x="9368" y="9053"/>
                  <a:pt x="9369" y="9233"/>
                  <a:pt x="9327" y="9451"/>
                </a:cubicBezTo>
                <a:cubicBezTo>
                  <a:pt x="9292" y="9632"/>
                  <a:pt x="9197" y="9664"/>
                  <a:pt x="9054" y="9748"/>
                </a:cubicBezTo>
              </a:path>
              <a:path w="2853" h="919">
                <a:moveTo>
                  <a:pt x="7913" y="9153"/>
                </a:moveTo>
                <a:cubicBezTo>
                  <a:pt x="7977" y="9130"/>
                  <a:pt x="8022" y="9111"/>
                  <a:pt x="8086" y="9103"/>
                </a:cubicBezTo>
                <a:cubicBezTo>
                  <a:pt x="8169" y="9247"/>
                  <a:pt x="8098" y="9341"/>
                  <a:pt x="8012" y="9475"/>
                </a:cubicBezTo>
                <a:cubicBezTo>
                  <a:pt x="7956" y="9551"/>
                  <a:pt x="7953" y="9564"/>
                  <a:pt x="7913" y="9599"/>
                </a:cubicBezTo>
                <a:cubicBezTo>
                  <a:pt x="8030" y="9529"/>
                  <a:pt x="8138" y="9426"/>
                  <a:pt x="8285" y="9426"/>
                </a:cubicBezTo>
                <a:cubicBezTo>
                  <a:pt x="8293" y="9434"/>
                  <a:pt x="8302" y="9443"/>
                  <a:pt x="8310" y="9451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46640" y="2847960"/>
            <a:ext cx="223560" cy="108000"/>
          </a:xfrm>
          <a:custGeom>
            <a:avLst/>
            <a:gdLst/>
            <a:ahLst/>
            <a:rect l="l" t="t" r="r" b="b"/>
            <a:pathLst>
              <a:path w="621" h="298">
                <a:moveTo>
                  <a:pt x="9649" y="7913"/>
                </a:moveTo>
                <a:cubicBezTo>
                  <a:pt x="9599" y="8013"/>
                  <a:pt x="9580" y="8052"/>
                  <a:pt x="9599" y="8161"/>
                </a:cubicBezTo>
                <a:cubicBezTo>
                  <a:pt x="9748" y="8135"/>
                  <a:pt x="9886" y="8122"/>
                  <a:pt x="9798" y="7962"/>
                </a:cubicBezTo>
              </a:path>
              <a:path w="621" h="298">
                <a:moveTo>
                  <a:pt x="10071" y="8186"/>
                </a:moveTo>
                <a:cubicBezTo>
                  <a:pt x="9955" y="8222"/>
                  <a:pt x="10172" y="8008"/>
                  <a:pt x="10195" y="7987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94120" y="2732040"/>
            <a:ext cx="347760" cy="233280"/>
          </a:xfrm>
          <a:custGeom>
            <a:avLst/>
            <a:gdLst/>
            <a:ahLst/>
            <a:rect l="l" t="t" r="r" b="b"/>
            <a:pathLst>
              <a:path w="968" h="646">
                <a:moveTo>
                  <a:pt x="11038" y="7590"/>
                </a:moveTo>
                <a:cubicBezTo>
                  <a:pt x="11015" y="7771"/>
                  <a:pt x="10934" y="7964"/>
                  <a:pt x="10864" y="8136"/>
                </a:cubicBezTo>
                <a:cubicBezTo>
                  <a:pt x="10848" y="8169"/>
                  <a:pt x="10831" y="8202"/>
                  <a:pt x="10815" y="8235"/>
                </a:cubicBezTo>
              </a:path>
              <a:path w="968" h="646">
                <a:moveTo>
                  <a:pt x="11187" y="7913"/>
                </a:moveTo>
                <a:cubicBezTo>
                  <a:pt x="11157" y="8024"/>
                  <a:pt x="11147" y="8100"/>
                  <a:pt x="11162" y="8210"/>
                </a:cubicBezTo>
                <a:cubicBezTo>
                  <a:pt x="11342" y="8224"/>
                  <a:pt x="11379" y="8135"/>
                  <a:pt x="11485" y="7987"/>
                </a:cubicBezTo>
                <a:cubicBezTo>
                  <a:pt x="11466" y="8093"/>
                  <a:pt x="11484" y="8291"/>
                  <a:pt x="11658" y="8186"/>
                </a:cubicBezTo>
                <a:cubicBezTo>
                  <a:pt x="11827" y="8084"/>
                  <a:pt x="11770" y="7957"/>
                  <a:pt x="11733" y="7813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80160" y="3133800"/>
            <a:ext cx="820800" cy="723960"/>
          </a:xfrm>
          <a:custGeom>
            <a:avLst/>
            <a:gdLst/>
            <a:ahLst/>
            <a:rect l="l" t="t" r="r" b="b"/>
            <a:pathLst>
              <a:path w="2283" h="2011">
                <a:moveTo>
                  <a:pt x="18926" y="9054"/>
                </a:moveTo>
                <a:cubicBezTo>
                  <a:pt x="18855" y="9068"/>
                  <a:pt x="18817" y="9244"/>
                  <a:pt x="18777" y="9351"/>
                </a:cubicBezTo>
                <a:cubicBezTo>
                  <a:pt x="18742" y="9443"/>
                  <a:pt x="18734" y="9537"/>
                  <a:pt x="18852" y="9575"/>
                </a:cubicBezTo>
                <a:cubicBezTo>
                  <a:pt x="18957" y="9609"/>
                  <a:pt x="19115" y="9526"/>
                  <a:pt x="19199" y="9475"/>
                </a:cubicBezTo>
                <a:cubicBezTo>
                  <a:pt x="19292" y="9419"/>
                  <a:pt x="19332" y="9355"/>
                  <a:pt x="19273" y="9252"/>
                </a:cubicBezTo>
                <a:cubicBezTo>
                  <a:pt x="19222" y="9162"/>
                  <a:pt x="19128" y="9254"/>
                  <a:pt x="19100" y="9302"/>
                </a:cubicBezTo>
                <a:cubicBezTo>
                  <a:pt x="19056" y="9376"/>
                  <a:pt x="19078" y="9426"/>
                  <a:pt x="19100" y="9500"/>
                </a:cubicBezTo>
              </a:path>
              <a:path w="2283" h="2011">
                <a:moveTo>
                  <a:pt x="19621" y="8905"/>
                </a:moveTo>
                <a:cubicBezTo>
                  <a:pt x="19583" y="9037"/>
                  <a:pt x="19518" y="9181"/>
                  <a:pt x="19521" y="9327"/>
                </a:cubicBezTo>
                <a:cubicBezTo>
                  <a:pt x="19524" y="9487"/>
                  <a:pt x="19565" y="9620"/>
                  <a:pt x="19720" y="9674"/>
                </a:cubicBezTo>
                <a:cubicBezTo>
                  <a:pt x="19794" y="9693"/>
                  <a:pt x="19801" y="9701"/>
                  <a:pt x="19844" y="9699"/>
                </a:cubicBezTo>
              </a:path>
              <a:path w="2283" h="2011">
                <a:moveTo>
                  <a:pt x="20017" y="9079"/>
                </a:moveTo>
                <a:cubicBezTo>
                  <a:pt x="20017" y="9261"/>
                  <a:pt x="20017" y="9442"/>
                  <a:pt x="20017" y="9624"/>
                </a:cubicBezTo>
              </a:path>
              <a:path w="2283" h="2011">
                <a:moveTo>
                  <a:pt x="20340" y="9153"/>
                </a:moveTo>
                <a:cubicBezTo>
                  <a:pt x="20263" y="9359"/>
                  <a:pt x="20200" y="9433"/>
                  <a:pt x="20340" y="9599"/>
                </a:cubicBezTo>
                <a:cubicBezTo>
                  <a:pt x="20591" y="9469"/>
                  <a:pt x="20691" y="9401"/>
                  <a:pt x="20538" y="9153"/>
                </a:cubicBezTo>
              </a:path>
              <a:path w="2283" h="2011">
                <a:moveTo>
                  <a:pt x="20613" y="8706"/>
                </a:moveTo>
                <a:cubicBezTo>
                  <a:pt x="20672" y="8924"/>
                  <a:pt x="20822" y="9106"/>
                  <a:pt x="20836" y="9351"/>
                </a:cubicBezTo>
                <a:cubicBezTo>
                  <a:pt x="20853" y="9649"/>
                  <a:pt x="20717" y="9711"/>
                  <a:pt x="20513" y="9872"/>
                </a:cubicBezTo>
              </a:path>
              <a:path w="2283" h="2011">
                <a:moveTo>
                  <a:pt x="18554" y="9947"/>
                </a:moveTo>
                <a:cubicBezTo>
                  <a:pt x="18783" y="9924"/>
                  <a:pt x="19017" y="9903"/>
                  <a:pt x="19248" y="9897"/>
                </a:cubicBezTo>
                <a:cubicBezTo>
                  <a:pt x="19642" y="9887"/>
                  <a:pt x="20002" y="9883"/>
                  <a:pt x="20389" y="9823"/>
                </a:cubicBezTo>
                <a:cubicBezTo>
                  <a:pt x="20406" y="9823"/>
                  <a:pt x="20422" y="9823"/>
                  <a:pt x="20439" y="9823"/>
                </a:cubicBezTo>
              </a:path>
              <a:path w="2283" h="2011">
                <a:moveTo>
                  <a:pt x="19248" y="10220"/>
                </a:moveTo>
                <a:cubicBezTo>
                  <a:pt x="19376" y="10141"/>
                  <a:pt x="19425" y="10108"/>
                  <a:pt x="19571" y="10145"/>
                </a:cubicBezTo>
                <a:cubicBezTo>
                  <a:pt x="19484" y="10368"/>
                  <a:pt x="19344" y="10474"/>
                  <a:pt x="19174" y="10641"/>
                </a:cubicBezTo>
                <a:cubicBezTo>
                  <a:pt x="19149" y="10666"/>
                  <a:pt x="19125" y="10691"/>
                  <a:pt x="19100" y="10716"/>
                </a:cubicBezTo>
                <a:cubicBezTo>
                  <a:pt x="19229" y="10655"/>
                  <a:pt x="19389" y="10503"/>
                  <a:pt x="19546" y="10542"/>
                </a:cubicBezTo>
                <a:cubicBezTo>
                  <a:pt x="19651" y="10568"/>
                  <a:pt x="19699" y="10616"/>
                  <a:pt x="19819" y="10616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562800" y="5180040"/>
            <a:ext cx="438120" cy="606240"/>
          </a:xfrm>
          <a:custGeom>
            <a:avLst/>
            <a:gdLst/>
            <a:ahLst/>
            <a:rect l="l" t="t" r="r" b="b"/>
            <a:pathLst>
              <a:path w="1217" h="1687">
                <a:moveTo>
                  <a:pt x="18752" y="15429"/>
                </a:moveTo>
                <a:cubicBezTo>
                  <a:pt x="18724" y="15400"/>
                  <a:pt x="18716" y="15387"/>
                  <a:pt x="18728" y="15354"/>
                </a:cubicBezTo>
                <a:cubicBezTo>
                  <a:pt x="18601" y="15465"/>
                  <a:pt x="18570" y="15630"/>
                  <a:pt x="18554" y="15801"/>
                </a:cubicBezTo>
                <a:cubicBezTo>
                  <a:pt x="18545" y="15893"/>
                  <a:pt x="18538" y="15982"/>
                  <a:pt x="18529" y="16073"/>
                </a:cubicBezTo>
              </a:path>
              <a:path w="1217" h="1687">
                <a:moveTo>
                  <a:pt x="18331" y="14536"/>
                </a:moveTo>
                <a:cubicBezTo>
                  <a:pt x="18405" y="14536"/>
                  <a:pt x="18480" y="14536"/>
                  <a:pt x="18554" y="14536"/>
                </a:cubicBezTo>
              </a:path>
              <a:path w="1217" h="1687">
                <a:moveTo>
                  <a:pt x="18231" y="14734"/>
                </a:moveTo>
                <a:cubicBezTo>
                  <a:pt x="18347" y="14734"/>
                  <a:pt x="18396" y="14734"/>
                  <a:pt x="18479" y="14734"/>
                </a:cubicBezTo>
              </a:path>
              <a:path w="1217" h="1687">
                <a:moveTo>
                  <a:pt x="18901" y="14436"/>
                </a:moveTo>
                <a:cubicBezTo>
                  <a:pt x="18861" y="14555"/>
                  <a:pt x="18892" y="14677"/>
                  <a:pt x="18901" y="14808"/>
                </a:cubicBezTo>
              </a:path>
              <a:path w="1217" h="1687">
                <a:moveTo>
                  <a:pt x="19298" y="14387"/>
                </a:moveTo>
                <a:cubicBezTo>
                  <a:pt x="19206" y="14416"/>
                  <a:pt x="18941" y="14567"/>
                  <a:pt x="19124" y="14709"/>
                </a:cubicBezTo>
                <a:cubicBezTo>
                  <a:pt x="19284" y="14778"/>
                  <a:pt x="19329" y="14795"/>
                  <a:pt x="19422" y="14858"/>
                </a:cubicBezTo>
                <a:cubicBezTo>
                  <a:pt x="19430" y="14866"/>
                  <a:pt x="19439" y="14875"/>
                  <a:pt x="19447" y="14883"/>
                </a:cubicBezTo>
                <a:cubicBezTo>
                  <a:pt x="19239" y="14944"/>
                  <a:pt x="19122" y="14900"/>
                  <a:pt x="19298" y="14684"/>
                </a:cubicBezTo>
                <a:cubicBezTo>
                  <a:pt x="19339" y="14643"/>
                  <a:pt x="19381" y="14601"/>
                  <a:pt x="19422" y="14560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20920" y="2759040"/>
            <a:ext cx="938160" cy="304920"/>
          </a:xfrm>
          <a:custGeom>
            <a:avLst/>
            <a:gdLst/>
            <a:ahLst/>
            <a:rect l="l" t="t" r="r" b="b"/>
            <a:pathLst>
              <a:path w="2606" h="844">
                <a:moveTo>
                  <a:pt x="6796" y="8037"/>
                </a:moveTo>
                <a:cubicBezTo>
                  <a:pt x="6633" y="8119"/>
                  <a:pt x="6562" y="8313"/>
                  <a:pt x="6474" y="8483"/>
                </a:cubicBezTo>
                <a:cubicBezTo>
                  <a:pt x="6400" y="8557"/>
                  <a:pt x="6641" y="8172"/>
                  <a:pt x="6648" y="8161"/>
                </a:cubicBezTo>
                <a:cubicBezTo>
                  <a:pt x="6714" y="8050"/>
                  <a:pt x="6802" y="7834"/>
                  <a:pt x="6945" y="7813"/>
                </a:cubicBezTo>
                <a:cubicBezTo>
                  <a:pt x="7022" y="8005"/>
                  <a:pt x="6983" y="8186"/>
                  <a:pt x="6896" y="8384"/>
                </a:cubicBezTo>
                <a:cubicBezTo>
                  <a:pt x="6879" y="8409"/>
                  <a:pt x="6863" y="8433"/>
                  <a:pt x="6846" y="8458"/>
                </a:cubicBezTo>
              </a:path>
              <a:path w="2606" h="844">
                <a:moveTo>
                  <a:pt x="6623" y="8285"/>
                </a:moveTo>
                <a:cubicBezTo>
                  <a:pt x="6730" y="8258"/>
                  <a:pt x="6771" y="8248"/>
                  <a:pt x="6846" y="8235"/>
                </a:cubicBezTo>
              </a:path>
              <a:path w="2606" h="844">
                <a:moveTo>
                  <a:pt x="7317" y="8186"/>
                </a:moveTo>
                <a:cubicBezTo>
                  <a:pt x="7350" y="8186"/>
                  <a:pt x="7384" y="8186"/>
                  <a:pt x="7417" y="8186"/>
                </a:cubicBezTo>
              </a:path>
              <a:path w="2606" h="844">
                <a:moveTo>
                  <a:pt x="7293" y="8334"/>
                </a:moveTo>
                <a:cubicBezTo>
                  <a:pt x="7368" y="8334"/>
                  <a:pt x="7409" y="8329"/>
                  <a:pt x="7466" y="8310"/>
                </a:cubicBezTo>
              </a:path>
              <a:path w="2606" h="844">
                <a:moveTo>
                  <a:pt x="8136" y="7665"/>
                </a:moveTo>
                <a:cubicBezTo>
                  <a:pt x="8084" y="7871"/>
                  <a:pt x="8012" y="8062"/>
                  <a:pt x="7938" y="8260"/>
                </a:cubicBezTo>
                <a:cubicBezTo>
                  <a:pt x="8059" y="8137"/>
                  <a:pt x="8124" y="8071"/>
                  <a:pt x="8285" y="8037"/>
                </a:cubicBezTo>
                <a:cubicBezTo>
                  <a:pt x="8347" y="8198"/>
                  <a:pt x="8287" y="8312"/>
                  <a:pt x="8086" y="8359"/>
                </a:cubicBezTo>
                <a:cubicBezTo>
                  <a:pt x="7930" y="8396"/>
                  <a:pt x="7879" y="8362"/>
                  <a:pt x="7838" y="8260"/>
                </a:cubicBezTo>
              </a:path>
              <a:path w="2606" h="844">
                <a:moveTo>
                  <a:pt x="8781" y="7789"/>
                </a:moveTo>
                <a:cubicBezTo>
                  <a:pt x="8773" y="7975"/>
                  <a:pt x="8761" y="8157"/>
                  <a:pt x="8706" y="8334"/>
                </a:cubicBezTo>
                <a:cubicBezTo>
                  <a:pt x="8726" y="8197"/>
                  <a:pt x="8760" y="8072"/>
                  <a:pt x="8905" y="8012"/>
                </a:cubicBezTo>
                <a:cubicBezTo>
                  <a:pt x="8921" y="8012"/>
                  <a:pt x="8938" y="8012"/>
                  <a:pt x="8954" y="8012"/>
                </a:cubicBezTo>
                <a:cubicBezTo>
                  <a:pt x="8992" y="8133"/>
                  <a:pt x="8948" y="8216"/>
                  <a:pt x="8979" y="8334"/>
                </a:cubicBezTo>
                <a:cubicBezTo>
                  <a:pt x="9003" y="8382"/>
                  <a:pt x="9009" y="8399"/>
                  <a:pt x="9054" y="8384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76640" y="3456000"/>
            <a:ext cx="1741320" cy="812880"/>
          </a:xfrm>
          <a:custGeom>
            <a:avLst/>
            <a:gdLst/>
            <a:ahLst/>
            <a:rect l="l" t="t" r="r" b="b"/>
            <a:pathLst>
              <a:path w="4838" h="2259">
                <a:moveTo>
                  <a:pt x="6325" y="10319"/>
                </a:moveTo>
                <a:cubicBezTo>
                  <a:pt x="6349" y="10468"/>
                  <a:pt x="6373" y="10617"/>
                  <a:pt x="6400" y="10765"/>
                </a:cubicBezTo>
                <a:cubicBezTo>
                  <a:pt x="6366" y="10532"/>
                  <a:pt x="6317" y="10353"/>
                  <a:pt x="6400" y="10120"/>
                </a:cubicBezTo>
                <a:cubicBezTo>
                  <a:pt x="6416" y="10095"/>
                  <a:pt x="6433" y="10071"/>
                  <a:pt x="6449" y="10046"/>
                </a:cubicBezTo>
                <a:cubicBezTo>
                  <a:pt x="6666" y="10191"/>
                  <a:pt x="6754" y="10323"/>
                  <a:pt x="6846" y="10567"/>
                </a:cubicBezTo>
                <a:cubicBezTo>
                  <a:pt x="6854" y="10592"/>
                  <a:pt x="6863" y="10616"/>
                  <a:pt x="6871" y="10641"/>
                </a:cubicBezTo>
              </a:path>
              <a:path w="4838" h="2259">
                <a:moveTo>
                  <a:pt x="6474" y="10517"/>
                </a:moveTo>
                <a:cubicBezTo>
                  <a:pt x="6632" y="10447"/>
                  <a:pt x="6776" y="10388"/>
                  <a:pt x="6945" y="10368"/>
                </a:cubicBezTo>
              </a:path>
              <a:path w="4838" h="2259">
                <a:moveTo>
                  <a:pt x="7218" y="10393"/>
                </a:moveTo>
                <a:cubicBezTo>
                  <a:pt x="7302" y="10387"/>
                  <a:pt x="7382" y="10375"/>
                  <a:pt x="7466" y="10368"/>
                </a:cubicBezTo>
              </a:path>
              <a:path w="4838" h="2259">
                <a:moveTo>
                  <a:pt x="7218" y="10567"/>
                </a:moveTo>
                <a:cubicBezTo>
                  <a:pt x="7334" y="10511"/>
                  <a:pt x="7444" y="10461"/>
                  <a:pt x="7565" y="10418"/>
                </a:cubicBezTo>
              </a:path>
              <a:path w="4838" h="2259">
                <a:moveTo>
                  <a:pt x="7987" y="9971"/>
                </a:moveTo>
                <a:cubicBezTo>
                  <a:pt x="8044" y="10179"/>
                  <a:pt x="8086" y="10351"/>
                  <a:pt x="8086" y="10567"/>
                </a:cubicBezTo>
              </a:path>
              <a:path w="4838" h="2259">
                <a:moveTo>
                  <a:pt x="8434" y="9872"/>
                </a:moveTo>
                <a:cubicBezTo>
                  <a:pt x="8656" y="9919"/>
                  <a:pt x="8940" y="10088"/>
                  <a:pt x="8706" y="10368"/>
                </a:cubicBezTo>
                <a:cubicBezTo>
                  <a:pt x="8585" y="10429"/>
                  <a:pt x="8566" y="10454"/>
                  <a:pt x="8483" y="10443"/>
                </a:cubicBezTo>
                <a:cubicBezTo>
                  <a:pt x="8441" y="10273"/>
                  <a:pt x="8514" y="10113"/>
                  <a:pt x="8731" y="10244"/>
                </a:cubicBezTo>
                <a:cubicBezTo>
                  <a:pt x="8821" y="10335"/>
                  <a:pt x="8851" y="10356"/>
                  <a:pt x="8855" y="10443"/>
                </a:cubicBezTo>
              </a:path>
              <a:path w="4838" h="2259">
                <a:moveTo>
                  <a:pt x="8979" y="9996"/>
                </a:moveTo>
                <a:cubicBezTo>
                  <a:pt x="8911" y="10209"/>
                  <a:pt x="8897" y="10255"/>
                  <a:pt x="8954" y="10468"/>
                </a:cubicBezTo>
                <a:cubicBezTo>
                  <a:pt x="9153" y="10428"/>
                  <a:pt x="9336" y="10306"/>
                  <a:pt x="9252" y="10046"/>
                </a:cubicBezTo>
                <a:cubicBezTo>
                  <a:pt x="9174" y="9967"/>
                  <a:pt x="9143" y="9942"/>
                  <a:pt x="9054" y="9971"/>
                </a:cubicBezTo>
              </a:path>
              <a:path w="4838" h="2259">
                <a:moveTo>
                  <a:pt x="9649" y="10368"/>
                </a:moveTo>
                <a:cubicBezTo>
                  <a:pt x="9649" y="10485"/>
                  <a:pt x="9652" y="10534"/>
                  <a:pt x="9674" y="10616"/>
                </a:cubicBezTo>
                <a:cubicBezTo>
                  <a:pt x="9754" y="10779"/>
                  <a:pt x="9589" y="10406"/>
                  <a:pt x="9773" y="10344"/>
                </a:cubicBezTo>
                <a:cubicBezTo>
                  <a:pt x="9923" y="10293"/>
                  <a:pt x="10045" y="10573"/>
                  <a:pt x="10096" y="10666"/>
                </a:cubicBezTo>
                <a:cubicBezTo>
                  <a:pt x="10041" y="10432"/>
                  <a:pt x="9989" y="10441"/>
                  <a:pt x="10145" y="10269"/>
                </a:cubicBezTo>
                <a:cubicBezTo>
                  <a:pt x="10285" y="10363"/>
                  <a:pt x="10337" y="10419"/>
                  <a:pt x="10368" y="10592"/>
                </a:cubicBezTo>
              </a:path>
              <a:path w="4838" h="2259">
                <a:moveTo>
                  <a:pt x="10492" y="9897"/>
                </a:moveTo>
                <a:cubicBezTo>
                  <a:pt x="10492" y="9845"/>
                  <a:pt x="10493" y="9827"/>
                  <a:pt x="10517" y="9798"/>
                </a:cubicBezTo>
                <a:cubicBezTo>
                  <a:pt x="10605" y="9885"/>
                  <a:pt x="10551" y="10009"/>
                  <a:pt x="10492" y="10120"/>
                </a:cubicBezTo>
                <a:cubicBezTo>
                  <a:pt x="10453" y="10180"/>
                  <a:pt x="10449" y="10192"/>
                  <a:pt x="10418" y="10220"/>
                </a:cubicBezTo>
                <a:cubicBezTo>
                  <a:pt x="10521" y="10162"/>
                  <a:pt x="10571" y="10145"/>
                  <a:pt x="10691" y="10145"/>
                </a:cubicBezTo>
              </a:path>
              <a:path w="4838" h="2259">
                <a:moveTo>
                  <a:pt x="7689" y="11857"/>
                </a:moveTo>
                <a:cubicBezTo>
                  <a:pt x="7812" y="11703"/>
                  <a:pt x="7911" y="11688"/>
                  <a:pt x="8136" y="11609"/>
                </a:cubicBezTo>
                <a:cubicBezTo>
                  <a:pt x="8512" y="11476"/>
                  <a:pt x="8888" y="11373"/>
                  <a:pt x="9277" y="11286"/>
                </a:cubicBezTo>
                <a:cubicBezTo>
                  <a:pt x="9651" y="11202"/>
                  <a:pt x="10023" y="11113"/>
                  <a:pt x="10393" y="11013"/>
                </a:cubicBezTo>
                <a:cubicBezTo>
                  <a:pt x="10621" y="10952"/>
                  <a:pt x="10799" y="10893"/>
                  <a:pt x="10964" y="10716"/>
                </a:cubicBezTo>
                <a:cubicBezTo>
                  <a:pt x="11121" y="10547"/>
                  <a:pt x="11196" y="10244"/>
                  <a:pt x="11137" y="10021"/>
                </a:cubicBezTo>
                <a:cubicBezTo>
                  <a:pt x="11112" y="9928"/>
                  <a:pt x="11044" y="9766"/>
                  <a:pt x="10964" y="9699"/>
                </a:cubicBezTo>
                <a:cubicBezTo>
                  <a:pt x="10917" y="9660"/>
                  <a:pt x="10800" y="9603"/>
                  <a:pt x="10740" y="9599"/>
                </a:cubicBezTo>
                <a:cubicBezTo>
                  <a:pt x="10676" y="9595"/>
                  <a:pt x="10600" y="9603"/>
                  <a:pt x="10542" y="9624"/>
                </a:cubicBezTo>
                <a:cubicBezTo>
                  <a:pt x="10460" y="9653"/>
                  <a:pt x="10368" y="9707"/>
                  <a:pt x="10294" y="9748"/>
                </a:cubicBezTo>
                <a:cubicBezTo>
                  <a:pt x="10200" y="9800"/>
                  <a:pt x="10120" y="9831"/>
                  <a:pt x="10021" y="9872"/>
                </a:cubicBezTo>
                <a:cubicBezTo>
                  <a:pt x="9897" y="9923"/>
                  <a:pt x="9784" y="9965"/>
                  <a:pt x="9649" y="9996"/>
                </a:cubicBezTo>
                <a:cubicBezTo>
                  <a:pt x="9551" y="10018"/>
                  <a:pt x="9451" y="10010"/>
                  <a:pt x="9351" y="10021"/>
                </a:cubicBezTo>
                <a:cubicBezTo>
                  <a:pt x="9226" y="10035"/>
                  <a:pt x="9110" y="10046"/>
                  <a:pt x="8979" y="10046"/>
                </a:cubicBezTo>
                <a:cubicBezTo>
                  <a:pt x="8886" y="10046"/>
                  <a:pt x="8817" y="10034"/>
                  <a:pt x="8731" y="10021"/>
                </a:cubicBezTo>
                <a:cubicBezTo>
                  <a:pt x="8663" y="10010"/>
                  <a:pt x="8598" y="9985"/>
                  <a:pt x="8533" y="9971"/>
                </a:cubicBezTo>
                <a:cubicBezTo>
                  <a:pt x="8426" y="9948"/>
                  <a:pt x="8321" y="9949"/>
                  <a:pt x="8210" y="9947"/>
                </a:cubicBezTo>
                <a:cubicBezTo>
                  <a:pt x="8042" y="9944"/>
                  <a:pt x="7880" y="9985"/>
                  <a:pt x="7714" y="9996"/>
                </a:cubicBezTo>
                <a:cubicBezTo>
                  <a:pt x="7565" y="10006"/>
                  <a:pt x="7439" y="10039"/>
                  <a:pt x="7293" y="10071"/>
                </a:cubicBezTo>
                <a:cubicBezTo>
                  <a:pt x="7034" y="10127"/>
                  <a:pt x="6767" y="10167"/>
                  <a:pt x="6573" y="10368"/>
                </a:cubicBezTo>
                <a:cubicBezTo>
                  <a:pt x="6490" y="10454"/>
                  <a:pt x="6487" y="10535"/>
                  <a:pt x="6499" y="10666"/>
                </a:cubicBezTo>
                <a:cubicBezTo>
                  <a:pt x="6514" y="10829"/>
                  <a:pt x="6582" y="10977"/>
                  <a:pt x="6672" y="11112"/>
                </a:cubicBezTo>
                <a:cubicBezTo>
                  <a:pt x="6784" y="11280"/>
                  <a:pt x="6950" y="11322"/>
                  <a:pt x="7144" y="11336"/>
                </a:cubicBezTo>
                <a:cubicBezTo>
                  <a:pt x="7542" y="11364"/>
                  <a:pt x="7964" y="11215"/>
                  <a:pt x="8359" y="11162"/>
                </a:cubicBezTo>
                <a:cubicBezTo>
                  <a:pt x="8516" y="11141"/>
                  <a:pt x="8674" y="11112"/>
                  <a:pt x="8830" y="11088"/>
                </a:cubicBezTo>
              </a:path>
              <a:path w="4838" h="2259">
                <a:moveTo>
                  <a:pt x="8855" y="11063"/>
                </a:moveTo>
                <a:cubicBezTo>
                  <a:pt x="8969" y="11049"/>
                  <a:pt x="9086" y="11011"/>
                  <a:pt x="9203" y="10988"/>
                </a:cubicBezTo>
                <a:cubicBezTo>
                  <a:pt x="9378" y="10954"/>
                  <a:pt x="9570" y="10932"/>
                  <a:pt x="9748" y="10914"/>
                </a:cubicBezTo>
                <a:cubicBezTo>
                  <a:pt x="9899" y="10899"/>
                  <a:pt x="10045" y="10874"/>
                  <a:pt x="10195" y="10840"/>
                </a:cubicBezTo>
                <a:cubicBezTo>
                  <a:pt x="10277" y="10819"/>
                  <a:pt x="10293" y="10811"/>
                  <a:pt x="10344" y="10815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80000" y="3759120"/>
            <a:ext cx="374760" cy="223920"/>
          </a:xfrm>
          <a:custGeom>
            <a:avLst/>
            <a:gdLst/>
            <a:ahLst/>
            <a:rect l="l" t="t" r="r" b="b"/>
            <a:pathLst>
              <a:path w="1042" h="621">
                <a:moveTo>
                  <a:pt x="13022" y="10443"/>
                </a:moveTo>
                <a:cubicBezTo>
                  <a:pt x="13022" y="10636"/>
                  <a:pt x="13015" y="10822"/>
                  <a:pt x="12998" y="11013"/>
                </a:cubicBezTo>
                <a:cubicBezTo>
                  <a:pt x="12998" y="11030"/>
                  <a:pt x="12998" y="11046"/>
                  <a:pt x="12998" y="11063"/>
                </a:cubicBezTo>
              </a:path>
              <a:path w="1042" h="621">
                <a:moveTo>
                  <a:pt x="13271" y="10492"/>
                </a:moveTo>
                <a:cubicBezTo>
                  <a:pt x="13244" y="10660"/>
                  <a:pt x="13223" y="10774"/>
                  <a:pt x="13320" y="10914"/>
                </a:cubicBezTo>
                <a:cubicBezTo>
                  <a:pt x="13477" y="10875"/>
                  <a:pt x="13512" y="10791"/>
                  <a:pt x="13444" y="10616"/>
                </a:cubicBezTo>
                <a:cubicBezTo>
                  <a:pt x="13383" y="10513"/>
                  <a:pt x="13376" y="10489"/>
                  <a:pt x="13320" y="10443"/>
                </a:cubicBezTo>
              </a:path>
              <a:path w="1042" h="621">
                <a:moveTo>
                  <a:pt x="13643" y="10790"/>
                </a:moveTo>
                <a:cubicBezTo>
                  <a:pt x="13662" y="10889"/>
                  <a:pt x="13670" y="10905"/>
                  <a:pt x="13667" y="10964"/>
                </a:cubicBezTo>
                <a:cubicBezTo>
                  <a:pt x="13649" y="10924"/>
                  <a:pt x="13526" y="10604"/>
                  <a:pt x="13667" y="10592"/>
                </a:cubicBezTo>
                <a:cubicBezTo>
                  <a:pt x="13773" y="10583"/>
                  <a:pt x="13895" y="10836"/>
                  <a:pt x="13841" y="10864"/>
                </a:cubicBezTo>
                <a:cubicBezTo>
                  <a:pt x="13833" y="10856"/>
                  <a:pt x="13824" y="10848"/>
                  <a:pt x="13816" y="10840"/>
                </a:cubicBezTo>
                <a:cubicBezTo>
                  <a:pt x="13816" y="10687"/>
                  <a:pt x="13807" y="10648"/>
                  <a:pt x="13866" y="10567"/>
                </a:cubicBezTo>
                <a:cubicBezTo>
                  <a:pt x="14016" y="10542"/>
                  <a:pt x="14030" y="10734"/>
                  <a:pt x="14039" y="10864"/>
                </a:cubicBezTo>
                <a:cubicBezTo>
                  <a:pt x="14039" y="10897"/>
                  <a:pt x="14039" y="10931"/>
                  <a:pt x="14039" y="10964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670720" y="3786120"/>
            <a:ext cx="1589040" cy="652680"/>
          </a:xfrm>
          <a:custGeom>
            <a:avLst/>
            <a:gdLst/>
            <a:ahLst/>
            <a:rect l="l" t="t" r="r" b="b"/>
            <a:pathLst>
              <a:path w="4416" h="1812">
                <a:moveTo>
                  <a:pt x="15925" y="11261"/>
                </a:moveTo>
                <a:cubicBezTo>
                  <a:pt x="16097" y="11089"/>
                  <a:pt x="16244" y="10905"/>
                  <a:pt x="16396" y="10716"/>
                </a:cubicBezTo>
                <a:cubicBezTo>
                  <a:pt x="16478" y="10613"/>
                  <a:pt x="16507" y="10589"/>
                  <a:pt x="16594" y="10517"/>
                </a:cubicBezTo>
              </a:path>
              <a:path w="4416" h="1812">
                <a:moveTo>
                  <a:pt x="15825" y="10914"/>
                </a:moveTo>
                <a:cubicBezTo>
                  <a:pt x="15810" y="11066"/>
                  <a:pt x="15777" y="11211"/>
                  <a:pt x="15751" y="11361"/>
                </a:cubicBezTo>
                <a:cubicBezTo>
                  <a:pt x="15751" y="11369"/>
                  <a:pt x="15751" y="11377"/>
                  <a:pt x="15751" y="11385"/>
                </a:cubicBezTo>
                <a:cubicBezTo>
                  <a:pt x="15935" y="11349"/>
                  <a:pt x="16115" y="11284"/>
                  <a:pt x="16297" y="11237"/>
                </a:cubicBezTo>
                <a:cubicBezTo>
                  <a:pt x="16305" y="11237"/>
                  <a:pt x="16313" y="11237"/>
                  <a:pt x="16321" y="11237"/>
                </a:cubicBezTo>
              </a:path>
              <a:path w="4416" h="1812">
                <a:moveTo>
                  <a:pt x="17338" y="11385"/>
                </a:moveTo>
                <a:cubicBezTo>
                  <a:pt x="17338" y="11467"/>
                  <a:pt x="17377" y="11780"/>
                  <a:pt x="17314" y="11757"/>
                </a:cubicBezTo>
                <a:cubicBezTo>
                  <a:pt x="17332" y="11496"/>
                  <a:pt x="17349" y="11317"/>
                  <a:pt x="17512" y="11112"/>
                </a:cubicBezTo>
                <a:cubicBezTo>
                  <a:pt x="17684" y="11312"/>
                  <a:pt x="17698" y="11515"/>
                  <a:pt x="17661" y="11782"/>
                </a:cubicBezTo>
                <a:cubicBezTo>
                  <a:pt x="17653" y="11815"/>
                  <a:pt x="17644" y="11848"/>
                  <a:pt x="17636" y="11881"/>
                </a:cubicBezTo>
              </a:path>
              <a:path w="4416" h="1812">
                <a:moveTo>
                  <a:pt x="17314" y="11633"/>
                </a:moveTo>
                <a:cubicBezTo>
                  <a:pt x="17512" y="11596"/>
                  <a:pt x="17710" y="11566"/>
                  <a:pt x="17909" y="11534"/>
                </a:cubicBezTo>
              </a:path>
              <a:path w="4416" h="1812">
                <a:moveTo>
                  <a:pt x="18107" y="11460"/>
                </a:moveTo>
                <a:cubicBezTo>
                  <a:pt x="18183" y="11460"/>
                  <a:pt x="18229" y="11450"/>
                  <a:pt x="18306" y="11435"/>
                </a:cubicBezTo>
              </a:path>
              <a:path w="4416" h="1812">
                <a:moveTo>
                  <a:pt x="18083" y="11683"/>
                </a:moveTo>
                <a:cubicBezTo>
                  <a:pt x="18215" y="11648"/>
                  <a:pt x="18346" y="11614"/>
                  <a:pt x="18479" y="11584"/>
                </a:cubicBezTo>
              </a:path>
              <a:path w="4416" h="1812">
                <a:moveTo>
                  <a:pt x="19273" y="11137"/>
                </a:moveTo>
                <a:cubicBezTo>
                  <a:pt x="19258" y="11289"/>
                  <a:pt x="19205" y="11455"/>
                  <a:pt x="19224" y="11609"/>
                </a:cubicBezTo>
                <a:cubicBezTo>
                  <a:pt x="19247" y="11795"/>
                  <a:pt x="19553" y="11543"/>
                  <a:pt x="19596" y="11509"/>
                </a:cubicBezTo>
                <a:cubicBezTo>
                  <a:pt x="19612" y="11501"/>
                  <a:pt x="19629" y="11493"/>
                  <a:pt x="19645" y="11485"/>
                </a:cubicBezTo>
                <a:cubicBezTo>
                  <a:pt x="19473" y="11514"/>
                  <a:pt x="19404" y="11540"/>
                  <a:pt x="19422" y="11733"/>
                </a:cubicBezTo>
              </a:path>
              <a:path w="4416" h="1812">
                <a:moveTo>
                  <a:pt x="19893" y="11162"/>
                </a:moveTo>
                <a:cubicBezTo>
                  <a:pt x="19811" y="11295"/>
                  <a:pt x="19802" y="11370"/>
                  <a:pt x="19794" y="11534"/>
                </a:cubicBezTo>
                <a:cubicBezTo>
                  <a:pt x="19931" y="11583"/>
                  <a:pt x="20159" y="11553"/>
                  <a:pt x="20166" y="11336"/>
                </a:cubicBezTo>
                <a:cubicBezTo>
                  <a:pt x="20117" y="11261"/>
                  <a:pt x="20101" y="11236"/>
                  <a:pt x="20042" y="11212"/>
                </a:cubicBezTo>
              </a:path>
              <a:path w="4416" h="1812">
                <a:moveTo>
                  <a:pt x="19348" y="11857"/>
                </a:moveTo>
                <a:cubicBezTo>
                  <a:pt x="19546" y="11826"/>
                  <a:pt x="19741" y="11757"/>
                  <a:pt x="19943" y="11733"/>
                </a:cubicBezTo>
                <a:cubicBezTo>
                  <a:pt x="19968" y="11733"/>
                  <a:pt x="19992" y="11733"/>
                  <a:pt x="20017" y="11733"/>
                </a:cubicBezTo>
              </a:path>
              <a:path w="4416" h="1812">
                <a:moveTo>
                  <a:pt x="19571" y="11931"/>
                </a:moveTo>
                <a:cubicBezTo>
                  <a:pt x="19704" y="11905"/>
                  <a:pt x="19862" y="11823"/>
                  <a:pt x="19918" y="11956"/>
                </a:cubicBezTo>
                <a:cubicBezTo>
                  <a:pt x="19788" y="12094"/>
                  <a:pt x="19619" y="12192"/>
                  <a:pt x="19496" y="12328"/>
                </a:cubicBezTo>
                <a:cubicBezTo>
                  <a:pt x="19638" y="12312"/>
                  <a:pt x="19777" y="12299"/>
                  <a:pt x="19918" y="12278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518160" y="4429080"/>
            <a:ext cx="1724040" cy="662040"/>
          </a:xfrm>
          <a:custGeom>
            <a:avLst/>
            <a:gdLst/>
            <a:ahLst/>
            <a:rect l="l" t="t" r="r" b="b"/>
            <a:pathLst>
              <a:path w="4789" h="1837">
                <a:moveTo>
                  <a:pt x="18306" y="12923"/>
                </a:moveTo>
                <a:cubicBezTo>
                  <a:pt x="18245" y="13151"/>
                  <a:pt x="18226" y="13371"/>
                  <a:pt x="18132" y="13593"/>
                </a:cubicBezTo>
                <a:cubicBezTo>
                  <a:pt x="18124" y="13610"/>
                  <a:pt x="18115" y="13626"/>
                  <a:pt x="18107" y="13643"/>
                </a:cubicBezTo>
                <a:cubicBezTo>
                  <a:pt x="18144" y="13442"/>
                  <a:pt x="18252" y="13258"/>
                  <a:pt x="18380" y="13097"/>
                </a:cubicBezTo>
                <a:cubicBezTo>
                  <a:pt x="18413" y="13064"/>
                  <a:pt x="18446" y="13031"/>
                  <a:pt x="18479" y="12998"/>
                </a:cubicBezTo>
                <a:cubicBezTo>
                  <a:pt x="18641" y="13113"/>
                  <a:pt x="18643" y="13311"/>
                  <a:pt x="18628" y="13519"/>
                </a:cubicBezTo>
                <a:cubicBezTo>
                  <a:pt x="18620" y="13560"/>
                  <a:pt x="18612" y="13602"/>
                  <a:pt x="18604" y="13643"/>
                </a:cubicBezTo>
              </a:path>
              <a:path w="4789" h="1837">
                <a:moveTo>
                  <a:pt x="18231" y="13320"/>
                </a:moveTo>
                <a:cubicBezTo>
                  <a:pt x="18438" y="13260"/>
                  <a:pt x="18644" y="13201"/>
                  <a:pt x="18852" y="13146"/>
                </a:cubicBezTo>
              </a:path>
              <a:path w="4789" h="1837">
                <a:moveTo>
                  <a:pt x="19025" y="13196"/>
                </a:moveTo>
                <a:cubicBezTo>
                  <a:pt x="19141" y="13173"/>
                  <a:pt x="19174" y="13166"/>
                  <a:pt x="19248" y="13146"/>
                </a:cubicBezTo>
              </a:path>
              <a:path w="4789" h="1837">
                <a:moveTo>
                  <a:pt x="19075" y="13370"/>
                </a:moveTo>
                <a:cubicBezTo>
                  <a:pt x="19133" y="13362"/>
                  <a:pt x="19190" y="13353"/>
                  <a:pt x="19248" y="13345"/>
                </a:cubicBezTo>
              </a:path>
              <a:path w="4789" h="1837">
                <a:moveTo>
                  <a:pt x="19745" y="12948"/>
                </a:moveTo>
                <a:cubicBezTo>
                  <a:pt x="19752" y="12940"/>
                  <a:pt x="20062" y="12769"/>
                  <a:pt x="20067" y="12923"/>
                </a:cubicBezTo>
                <a:cubicBezTo>
                  <a:pt x="20014" y="13055"/>
                  <a:pt x="19992" y="13103"/>
                  <a:pt x="19918" y="13171"/>
                </a:cubicBezTo>
                <a:cubicBezTo>
                  <a:pt x="19893" y="13188"/>
                  <a:pt x="19869" y="13204"/>
                  <a:pt x="19844" y="13221"/>
                </a:cubicBezTo>
                <a:cubicBezTo>
                  <a:pt x="19925" y="13194"/>
                  <a:pt x="20345" y="13111"/>
                  <a:pt x="20191" y="13345"/>
                </a:cubicBezTo>
                <a:cubicBezTo>
                  <a:pt x="20029" y="13591"/>
                  <a:pt x="19722" y="13506"/>
                  <a:pt x="19596" y="13370"/>
                </a:cubicBezTo>
              </a:path>
              <a:path w="4789" h="1837">
                <a:moveTo>
                  <a:pt x="20489" y="12874"/>
                </a:moveTo>
                <a:cubicBezTo>
                  <a:pt x="20332" y="13002"/>
                  <a:pt x="20111" y="13178"/>
                  <a:pt x="20241" y="13419"/>
                </a:cubicBezTo>
                <a:cubicBezTo>
                  <a:pt x="20282" y="13452"/>
                  <a:pt x="20324" y="13486"/>
                  <a:pt x="20365" y="13519"/>
                </a:cubicBezTo>
                <a:cubicBezTo>
                  <a:pt x="20616" y="13480"/>
                  <a:pt x="20827" y="13363"/>
                  <a:pt x="20662" y="13047"/>
                </a:cubicBezTo>
                <a:cubicBezTo>
                  <a:pt x="20563" y="12973"/>
                  <a:pt x="20530" y="12948"/>
                  <a:pt x="20439" y="12973"/>
                </a:cubicBezTo>
              </a:path>
              <a:path w="4789" h="1837">
                <a:moveTo>
                  <a:pt x="21034" y="13221"/>
                </a:moveTo>
                <a:cubicBezTo>
                  <a:pt x="21012" y="13321"/>
                  <a:pt x="21034" y="13473"/>
                  <a:pt x="21034" y="13593"/>
                </a:cubicBezTo>
                <a:cubicBezTo>
                  <a:pt x="21046" y="13465"/>
                  <a:pt x="21026" y="13226"/>
                  <a:pt x="21158" y="13146"/>
                </a:cubicBezTo>
                <a:cubicBezTo>
                  <a:pt x="21318" y="13050"/>
                  <a:pt x="21385" y="13416"/>
                  <a:pt x="21406" y="13494"/>
                </a:cubicBezTo>
                <a:cubicBezTo>
                  <a:pt x="21362" y="13316"/>
                  <a:pt x="21351" y="13319"/>
                  <a:pt x="21456" y="13171"/>
                </a:cubicBezTo>
                <a:cubicBezTo>
                  <a:pt x="21629" y="13229"/>
                  <a:pt x="21661" y="13357"/>
                  <a:pt x="21679" y="13543"/>
                </a:cubicBezTo>
                <a:cubicBezTo>
                  <a:pt x="21679" y="13560"/>
                  <a:pt x="21679" y="13576"/>
                  <a:pt x="21679" y="13593"/>
                </a:cubicBezTo>
              </a:path>
              <a:path w="4789" h="1837">
                <a:moveTo>
                  <a:pt x="21729" y="12898"/>
                </a:moveTo>
                <a:cubicBezTo>
                  <a:pt x="21797" y="12844"/>
                  <a:pt x="21842" y="12816"/>
                  <a:pt x="21927" y="12799"/>
                </a:cubicBezTo>
                <a:cubicBezTo>
                  <a:pt x="21906" y="12947"/>
                  <a:pt x="21873" y="13029"/>
                  <a:pt x="21754" y="13122"/>
                </a:cubicBezTo>
                <a:cubicBezTo>
                  <a:pt x="21855" y="13117"/>
                  <a:pt x="21951" y="13106"/>
                  <a:pt x="22051" y="13097"/>
                </a:cubicBezTo>
              </a:path>
              <a:path w="4789" h="1837">
                <a:moveTo>
                  <a:pt x="19596" y="14015"/>
                </a:moveTo>
                <a:cubicBezTo>
                  <a:pt x="19851" y="13972"/>
                  <a:pt x="20106" y="13979"/>
                  <a:pt x="20365" y="13965"/>
                </a:cubicBezTo>
                <a:cubicBezTo>
                  <a:pt x="20811" y="13940"/>
                  <a:pt x="21262" y="13904"/>
                  <a:pt x="21704" y="13841"/>
                </a:cubicBezTo>
                <a:cubicBezTo>
                  <a:pt x="22032" y="13794"/>
                  <a:pt x="22328" y="13715"/>
                  <a:pt x="22597" y="13519"/>
                </a:cubicBezTo>
                <a:cubicBezTo>
                  <a:pt x="22807" y="13366"/>
                  <a:pt x="22945" y="13165"/>
                  <a:pt x="22870" y="12898"/>
                </a:cubicBezTo>
                <a:cubicBezTo>
                  <a:pt x="22750" y="12468"/>
                  <a:pt x="22440" y="12419"/>
                  <a:pt x="22051" y="12353"/>
                </a:cubicBezTo>
                <a:cubicBezTo>
                  <a:pt x="21576" y="12273"/>
                  <a:pt x="21135" y="12313"/>
                  <a:pt x="20662" y="12378"/>
                </a:cubicBezTo>
                <a:cubicBezTo>
                  <a:pt x="20093" y="12456"/>
                  <a:pt x="19472" y="12555"/>
                  <a:pt x="18951" y="12799"/>
                </a:cubicBezTo>
                <a:cubicBezTo>
                  <a:pt x="18669" y="12931"/>
                  <a:pt x="18421" y="13147"/>
                  <a:pt x="18281" y="13419"/>
                </a:cubicBezTo>
                <a:cubicBezTo>
                  <a:pt x="18239" y="13501"/>
                  <a:pt x="18164" y="13622"/>
                  <a:pt x="18157" y="13717"/>
                </a:cubicBezTo>
                <a:cubicBezTo>
                  <a:pt x="18143" y="13902"/>
                  <a:pt x="18308" y="14046"/>
                  <a:pt x="18479" y="14089"/>
                </a:cubicBezTo>
                <a:cubicBezTo>
                  <a:pt x="18843" y="14181"/>
                  <a:pt x="19305" y="14153"/>
                  <a:pt x="19670" y="14089"/>
                </a:cubicBezTo>
                <a:cubicBezTo>
                  <a:pt x="19876" y="14053"/>
                  <a:pt x="20084" y="13983"/>
                  <a:pt x="20290" y="13940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14720" y="5241960"/>
            <a:ext cx="687240" cy="517320"/>
          </a:xfrm>
          <a:custGeom>
            <a:avLst/>
            <a:gdLst/>
            <a:ahLst/>
            <a:rect l="l" t="t" r="r" b="b"/>
            <a:pathLst>
              <a:path w="1911" h="1440">
                <a:moveTo>
                  <a:pt x="6226" y="15404"/>
                </a:moveTo>
                <a:cubicBezTo>
                  <a:pt x="6176" y="15504"/>
                  <a:pt x="6162" y="15685"/>
                  <a:pt x="6152" y="15801"/>
                </a:cubicBezTo>
                <a:cubicBezTo>
                  <a:pt x="6147" y="15865"/>
                  <a:pt x="6152" y="15934"/>
                  <a:pt x="6152" y="15999"/>
                </a:cubicBezTo>
              </a:path>
              <a:path w="1911" h="1440">
                <a:moveTo>
                  <a:pt x="6474" y="15627"/>
                </a:moveTo>
                <a:cubicBezTo>
                  <a:pt x="6614" y="15660"/>
                  <a:pt x="6775" y="15691"/>
                  <a:pt x="6921" y="15701"/>
                </a:cubicBezTo>
                <a:cubicBezTo>
                  <a:pt x="7095" y="15713"/>
                  <a:pt x="7266" y="15726"/>
                  <a:pt x="7441" y="15726"/>
                </a:cubicBezTo>
                <a:cubicBezTo>
                  <a:pt x="7648" y="15726"/>
                  <a:pt x="7855" y="15726"/>
                  <a:pt x="8062" y="15726"/>
                </a:cubicBezTo>
              </a:path>
              <a:path w="1911" h="1440">
                <a:moveTo>
                  <a:pt x="6623" y="15429"/>
                </a:moveTo>
                <a:cubicBezTo>
                  <a:pt x="6469" y="15428"/>
                  <a:pt x="6401" y="15572"/>
                  <a:pt x="6276" y="15677"/>
                </a:cubicBezTo>
                <a:cubicBezTo>
                  <a:pt x="6251" y="15693"/>
                  <a:pt x="6226" y="15710"/>
                  <a:pt x="6201" y="15726"/>
                </a:cubicBezTo>
                <a:cubicBezTo>
                  <a:pt x="6335" y="15763"/>
                  <a:pt x="6470" y="15799"/>
                  <a:pt x="6598" y="15850"/>
                </a:cubicBezTo>
              </a:path>
              <a:path w="1911" h="1440">
                <a:moveTo>
                  <a:pt x="6152" y="14560"/>
                </a:moveTo>
                <a:cubicBezTo>
                  <a:pt x="6190" y="14718"/>
                  <a:pt x="6176" y="14890"/>
                  <a:pt x="6176" y="15056"/>
                </a:cubicBezTo>
                <a:cubicBezTo>
                  <a:pt x="6166" y="14898"/>
                  <a:pt x="6152" y="14744"/>
                  <a:pt x="6152" y="14585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33680" y="33577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4539" y="9327"/>
                </a:moveTo>
                <a:lnTo>
                  <a:pt x="4539" y="9327"/>
                </a:ln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68320" y="45100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4911" y="12526"/>
                </a:moveTo>
                <a:lnTo>
                  <a:pt x="4911" y="12526"/>
                </a:ln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75120" y="5197320"/>
            <a:ext cx="339840" cy="204840"/>
          </a:xfrm>
          <a:custGeom>
            <a:avLst/>
            <a:gdLst/>
            <a:ahLst/>
            <a:rect l="l" t="t" r="r" b="b"/>
            <a:pathLst>
              <a:path w="944" h="572">
                <a:moveTo>
                  <a:pt x="14412" y="14684"/>
                </a:moveTo>
                <a:cubicBezTo>
                  <a:pt x="14464" y="14712"/>
                  <a:pt x="14478" y="14888"/>
                  <a:pt x="14486" y="15007"/>
                </a:cubicBezTo>
              </a:path>
              <a:path w="944" h="572">
                <a:moveTo>
                  <a:pt x="13841" y="14436"/>
                </a:moveTo>
                <a:cubicBezTo>
                  <a:pt x="13825" y="14519"/>
                  <a:pt x="13816" y="14575"/>
                  <a:pt x="13816" y="14660"/>
                </a:cubicBezTo>
              </a:path>
              <a:path w="944" h="572">
                <a:moveTo>
                  <a:pt x="13543" y="14536"/>
                </a:moveTo>
                <a:cubicBezTo>
                  <a:pt x="13676" y="14536"/>
                  <a:pt x="13806" y="14515"/>
                  <a:pt x="13940" y="14511"/>
                </a:cubicBezTo>
                <a:cubicBezTo>
                  <a:pt x="13957" y="14511"/>
                  <a:pt x="13973" y="14511"/>
                  <a:pt x="13990" y="14511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61000" y="4956120"/>
            <a:ext cx="403200" cy="322200"/>
          </a:xfrm>
          <a:custGeom>
            <a:avLst/>
            <a:gdLst/>
            <a:ahLst/>
            <a:rect l="l" t="t" r="r" b="b"/>
            <a:pathLst>
              <a:path w="1117" h="894">
                <a:moveTo>
                  <a:pt x="15776" y="14585"/>
                </a:moveTo>
                <a:cubicBezTo>
                  <a:pt x="15860" y="14585"/>
                  <a:pt x="15893" y="14590"/>
                  <a:pt x="15974" y="14610"/>
                </a:cubicBezTo>
                <a:cubicBezTo>
                  <a:pt x="16084" y="14638"/>
                  <a:pt x="16188" y="14615"/>
                  <a:pt x="16297" y="14635"/>
                </a:cubicBezTo>
                <a:cubicBezTo>
                  <a:pt x="16393" y="14652"/>
                  <a:pt x="16470" y="14660"/>
                  <a:pt x="16570" y="14660"/>
                </a:cubicBezTo>
                <a:cubicBezTo>
                  <a:pt x="16647" y="14660"/>
                  <a:pt x="16714" y="14635"/>
                  <a:pt x="16793" y="14635"/>
                </a:cubicBezTo>
                <a:cubicBezTo>
                  <a:pt x="16809" y="14635"/>
                  <a:pt x="16826" y="14635"/>
                  <a:pt x="16842" y="14635"/>
                </a:cubicBezTo>
                <a:cubicBezTo>
                  <a:pt x="16667" y="14610"/>
                  <a:pt x="16498" y="14610"/>
                  <a:pt x="16321" y="14610"/>
                </a:cubicBezTo>
                <a:cubicBezTo>
                  <a:pt x="16199" y="14610"/>
                  <a:pt x="16088" y="14610"/>
                  <a:pt x="15974" y="14635"/>
                </a:cubicBezTo>
                <a:cubicBezTo>
                  <a:pt x="15937" y="14643"/>
                  <a:pt x="15871" y="14610"/>
                  <a:pt x="15825" y="14610"/>
                </a:cubicBezTo>
                <a:cubicBezTo>
                  <a:pt x="15792" y="14610"/>
                  <a:pt x="15759" y="14610"/>
                  <a:pt x="15726" y="14610"/>
                </a:cubicBezTo>
                <a:cubicBezTo>
                  <a:pt x="16028" y="14610"/>
                  <a:pt x="16359" y="14594"/>
                  <a:pt x="16644" y="14635"/>
                </a:cubicBezTo>
                <a:cubicBezTo>
                  <a:pt x="16686" y="14641"/>
                  <a:pt x="16749" y="14635"/>
                  <a:pt x="16793" y="14635"/>
                </a:cubicBezTo>
              </a:path>
              <a:path w="1117" h="894">
                <a:moveTo>
                  <a:pt x="16123" y="13791"/>
                </a:moveTo>
                <a:cubicBezTo>
                  <a:pt x="16097" y="13783"/>
                  <a:pt x="16010" y="13987"/>
                  <a:pt x="15974" y="14064"/>
                </a:cubicBezTo>
                <a:cubicBezTo>
                  <a:pt x="15939" y="14139"/>
                  <a:pt x="15864" y="14322"/>
                  <a:pt x="15875" y="14412"/>
                </a:cubicBezTo>
                <a:cubicBezTo>
                  <a:pt x="15885" y="14489"/>
                  <a:pt x="16026" y="14562"/>
                  <a:pt x="16098" y="14560"/>
                </a:cubicBezTo>
                <a:cubicBezTo>
                  <a:pt x="16223" y="14556"/>
                  <a:pt x="16388" y="14503"/>
                  <a:pt x="16470" y="14412"/>
                </a:cubicBezTo>
                <a:cubicBezTo>
                  <a:pt x="16514" y="14363"/>
                  <a:pt x="16520" y="14299"/>
                  <a:pt x="16520" y="14238"/>
                </a:cubicBezTo>
                <a:cubicBezTo>
                  <a:pt x="16390" y="14166"/>
                  <a:pt x="16381" y="14168"/>
                  <a:pt x="16297" y="14263"/>
                </a:cubicBezTo>
                <a:cubicBezTo>
                  <a:pt x="16181" y="14396"/>
                  <a:pt x="16207" y="14467"/>
                  <a:pt x="16222" y="14635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46640" y="5072040"/>
            <a:ext cx="590400" cy="214200"/>
          </a:xfrm>
          <a:custGeom>
            <a:avLst/>
            <a:gdLst/>
            <a:ahLst/>
            <a:rect l="l" t="t" r="r" b="b"/>
            <a:pathLst>
              <a:path w="1638" h="596">
                <a:moveTo>
                  <a:pt x="9575" y="14089"/>
                </a:moveTo>
                <a:cubicBezTo>
                  <a:pt x="9575" y="14279"/>
                  <a:pt x="9575" y="14470"/>
                  <a:pt x="9575" y="14660"/>
                </a:cubicBezTo>
              </a:path>
              <a:path w="1638" h="596">
                <a:moveTo>
                  <a:pt x="9847" y="14089"/>
                </a:moveTo>
                <a:cubicBezTo>
                  <a:pt x="9936" y="14098"/>
                  <a:pt x="10143" y="14101"/>
                  <a:pt x="10195" y="14188"/>
                </a:cubicBezTo>
                <a:cubicBezTo>
                  <a:pt x="10309" y="14379"/>
                  <a:pt x="10046" y="14530"/>
                  <a:pt x="9922" y="14610"/>
                </a:cubicBezTo>
                <a:cubicBezTo>
                  <a:pt x="10041" y="14645"/>
                  <a:pt x="10092" y="14644"/>
                  <a:pt x="10220" y="14635"/>
                </a:cubicBezTo>
              </a:path>
              <a:path w="1638" h="596">
                <a:moveTo>
                  <a:pt x="10592" y="14436"/>
                </a:moveTo>
                <a:cubicBezTo>
                  <a:pt x="10565" y="14517"/>
                  <a:pt x="10557" y="14549"/>
                  <a:pt x="10567" y="14610"/>
                </a:cubicBezTo>
                <a:cubicBezTo>
                  <a:pt x="10579" y="14505"/>
                  <a:pt x="10579" y="14268"/>
                  <a:pt x="10740" y="14263"/>
                </a:cubicBezTo>
                <a:cubicBezTo>
                  <a:pt x="10880" y="14259"/>
                  <a:pt x="10887" y="14445"/>
                  <a:pt x="10914" y="14536"/>
                </a:cubicBezTo>
                <a:cubicBezTo>
                  <a:pt x="10900" y="14396"/>
                  <a:pt x="10961" y="14350"/>
                  <a:pt x="11088" y="14288"/>
                </a:cubicBezTo>
                <a:cubicBezTo>
                  <a:pt x="11199" y="14429"/>
                  <a:pt x="11212" y="14505"/>
                  <a:pt x="11212" y="14684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473960" y="5160960"/>
            <a:ext cx="509400" cy="741240"/>
          </a:xfrm>
          <a:custGeom>
            <a:avLst/>
            <a:gdLst/>
            <a:ahLst/>
            <a:rect l="l" t="t" r="r" b="b"/>
            <a:pathLst>
              <a:path w="1414" h="2060">
                <a:moveTo>
                  <a:pt x="21183" y="14511"/>
                </a:moveTo>
                <a:cubicBezTo>
                  <a:pt x="21183" y="14668"/>
                  <a:pt x="21180" y="14711"/>
                  <a:pt x="21208" y="14808"/>
                </a:cubicBezTo>
              </a:path>
              <a:path w="1414" h="2060">
                <a:moveTo>
                  <a:pt x="21555" y="14337"/>
                </a:moveTo>
                <a:cubicBezTo>
                  <a:pt x="21443" y="14449"/>
                  <a:pt x="21404" y="14475"/>
                  <a:pt x="21406" y="14585"/>
                </a:cubicBezTo>
                <a:cubicBezTo>
                  <a:pt x="21524" y="14683"/>
                  <a:pt x="21641" y="14780"/>
                  <a:pt x="21754" y="14883"/>
                </a:cubicBezTo>
                <a:cubicBezTo>
                  <a:pt x="21584" y="14942"/>
                  <a:pt x="21339" y="14949"/>
                  <a:pt x="21580" y="14684"/>
                </a:cubicBezTo>
                <a:cubicBezTo>
                  <a:pt x="21630" y="14651"/>
                  <a:pt x="21679" y="14618"/>
                  <a:pt x="21729" y="14585"/>
                </a:cubicBezTo>
              </a:path>
              <a:path w="1414" h="2060">
                <a:moveTo>
                  <a:pt x="20762" y="15354"/>
                </a:moveTo>
                <a:cubicBezTo>
                  <a:pt x="20795" y="15346"/>
                  <a:pt x="20828" y="15337"/>
                  <a:pt x="20861" y="15329"/>
                </a:cubicBezTo>
              </a:path>
              <a:path w="1414" h="2060">
                <a:moveTo>
                  <a:pt x="21208" y="15230"/>
                </a:moveTo>
                <a:cubicBezTo>
                  <a:pt x="21242" y="15312"/>
                  <a:pt x="21270" y="15404"/>
                  <a:pt x="21307" y="15478"/>
                </a:cubicBezTo>
              </a:path>
              <a:path w="1414" h="2060">
                <a:moveTo>
                  <a:pt x="21481" y="15230"/>
                </a:moveTo>
                <a:cubicBezTo>
                  <a:pt x="21594" y="15181"/>
                  <a:pt x="21630" y="15178"/>
                  <a:pt x="21754" y="15205"/>
                </a:cubicBezTo>
                <a:cubicBezTo>
                  <a:pt x="21713" y="15409"/>
                  <a:pt x="21568" y="15447"/>
                  <a:pt x="21406" y="15553"/>
                </a:cubicBezTo>
                <a:cubicBezTo>
                  <a:pt x="21318" y="15610"/>
                  <a:pt x="21817" y="15557"/>
                  <a:pt x="21853" y="15553"/>
                </a:cubicBezTo>
              </a:path>
              <a:path w="1414" h="2060">
                <a:moveTo>
                  <a:pt x="21183" y="15801"/>
                </a:moveTo>
                <a:cubicBezTo>
                  <a:pt x="21470" y="15789"/>
                  <a:pt x="21675" y="15790"/>
                  <a:pt x="21952" y="15850"/>
                </a:cubicBezTo>
              </a:path>
              <a:path w="1414" h="2060">
                <a:moveTo>
                  <a:pt x="21878" y="15974"/>
                </a:moveTo>
                <a:cubicBezTo>
                  <a:pt x="21741" y="16102"/>
                  <a:pt x="21665" y="16184"/>
                  <a:pt x="21679" y="16371"/>
                </a:cubicBezTo>
                <a:cubicBezTo>
                  <a:pt x="21918" y="16393"/>
                  <a:pt x="22027" y="16384"/>
                  <a:pt x="22175" y="16197"/>
                </a:cubicBezTo>
                <a:cubicBezTo>
                  <a:pt x="22037" y="16139"/>
                  <a:pt x="22009" y="16213"/>
                  <a:pt x="21927" y="16321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R 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 the figure below on your paper.  Divide into at least 2 figures and find the total area.  (Hint:  You may need to find the length of missing sides in order to solv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0" y="4952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514600" y="2629080"/>
            <a:ext cx="6496560" cy="3695400"/>
            <a:chOff x="2514600" y="2629080"/>
            <a:chExt cx="6496560" cy="3695400"/>
          </a:xfrm>
        </p:grpSpPr>
        <p:grpSp>
          <p:nvGrpSpPr>
            <p:cNvPr id="102" name=""/>
            <p:cNvGrpSpPr/>
            <p:nvPr/>
          </p:nvGrpSpPr>
          <p:grpSpPr>
            <a:xfrm>
              <a:off x="3809880" y="3200400"/>
              <a:ext cx="4343400" cy="3124080"/>
              <a:chOff x="3809880" y="3200400"/>
              <a:chExt cx="4343400" cy="3124080"/>
            </a:xfrm>
          </p:grpSpPr>
          <p:sp>
            <p:nvSpPr>
              <p:cNvPr id="103" name=""/>
              <p:cNvSpPr/>
              <p:nvPr/>
            </p:nvSpPr>
            <p:spPr>
              <a:xfrm>
                <a:off x="3809880" y="3200400"/>
                <a:ext cx="4343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809880" y="3200400"/>
                <a:ext cx="0" cy="160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809880" y="4800600"/>
                <a:ext cx="2819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153280" y="3200400"/>
                <a:ext cx="0" cy="312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629400" y="4800600"/>
                <a:ext cx="0" cy="152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629400" y="6324480"/>
                <a:ext cx="152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5439600" y="2629080"/>
              <a:ext cx="74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8 f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14600" y="3809880"/>
              <a:ext cx="102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 f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9200" y="4857840"/>
              <a:ext cx="74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8 f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262000" y="4054320"/>
              <a:ext cx="74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1 f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3919680" y="3768840"/>
            <a:ext cx="1814400" cy="625320"/>
          </a:xfrm>
          <a:custGeom>
            <a:avLst/>
            <a:gdLst/>
            <a:ahLst/>
            <a:rect l="l" t="t" r="r" b="b"/>
            <a:pathLst>
              <a:path w="5037" h="1737">
                <a:moveTo>
                  <a:pt x="11485" y="10964"/>
                </a:moveTo>
                <a:cubicBezTo>
                  <a:pt x="11404" y="11113"/>
                  <a:pt x="11346" y="11274"/>
                  <a:pt x="11286" y="11435"/>
                </a:cubicBezTo>
                <a:cubicBezTo>
                  <a:pt x="11367" y="11243"/>
                  <a:pt x="11411" y="11070"/>
                  <a:pt x="11559" y="10914"/>
                </a:cubicBezTo>
                <a:cubicBezTo>
                  <a:pt x="11638" y="10855"/>
                  <a:pt x="11647" y="10830"/>
                  <a:pt x="11708" y="10840"/>
                </a:cubicBezTo>
                <a:cubicBezTo>
                  <a:pt x="11762" y="11037"/>
                  <a:pt x="11716" y="11164"/>
                  <a:pt x="11658" y="11361"/>
                </a:cubicBezTo>
                <a:cubicBezTo>
                  <a:pt x="11658" y="11369"/>
                  <a:pt x="11658" y="11377"/>
                  <a:pt x="11658" y="11385"/>
                </a:cubicBezTo>
              </a:path>
              <a:path w="5037" h="1737">
                <a:moveTo>
                  <a:pt x="11435" y="11187"/>
                </a:moveTo>
                <a:cubicBezTo>
                  <a:pt x="11554" y="11127"/>
                  <a:pt x="11673" y="11137"/>
                  <a:pt x="11807" y="11137"/>
                </a:cubicBezTo>
              </a:path>
              <a:path w="5037" h="1737">
                <a:moveTo>
                  <a:pt x="11981" y="11187"/>
                </a:moveTo>
                <a:cubicBezTo>
                  <a:pt x="12088" y="11187"/>
                  <a:pt x="12196" y="11187"/>
                  <a:pt x="12303" y="11187"/>
                </a:cubicBezTo>
              </a:path>
              <a:path w="5037" h="1737">
                <a:moveTo>
                  <a:pt x="12055" y="11361"/>
                </a:moveTo>
                <a:cubicBezTo>
                  <a:pt x="12147" y="11361"/>
                  <a:pt x="12174" y="11359"/>
                  <a:pt x="12229" y="11385"/>
                </a:cubicBezTo>
              </a:path>
              <a:path w="5037" h="1737">
                <a:moveTo>
                  <a:pt x="12576" y="11112"/>
                </a:moveTo>
                <a:cubicBezTo>
                  <a:pt x="12672" y="11095"/>
                  <a:pt x="12751" y="11052"/>
                  <a:pt x="12849" y="11013"/>
                </a:cubicBezTo>
                <a:cubicBezTo>
                  <a:pt x="12814" y="11324"/>
                  <a:pt x="12711" y="11440"/>
                  <a:pt x="12526" y="11683"/>
                </a:cubicBezTo>
                <a:cubicBezTo>
                  <a:pt x="12518" y="11700"/>
                  <a:pt x="12510" y="11716"/>
                  <a:pt x="12502" y="11733"/>
                </a:cubicBezTo>
                <a:cubicBezTo>
                  <a:pt x="12629" y="11696"/>
                  <a:pt x="12686" y="11616"/>
                  <a:pt x="12824" y="11658"/>
                </a:cubicBezTo>
                <a:cubicBezTo>
                  <a:pt x="12914" y="11703"/>
                  <a:pt x="12936" y="11717"/>
                  <a:pt x="12998" y="11733"/>
                </a:cubicBezTo>
              </a:path>
              <a:path w="5037" h="1737">
                <a:moveTo>
                  <a:pt x="13221" y="11187"/>
                </a:moveTo>
                <a:cubicBezTo>
                  <a:pt x="13215" y="11369"/>
                  <a:pt x="13218" y="11561"/>
                  <a:pt x="13171" y="11733"/>
                </a:cubicBezTo>
              </a:path>
              <a:path w="5037" h="1737">
                <a:moveTo>
                  <a:pt x="13444" y="11137"/>
                </a:moveTo>
                <a:cubicBezTo>
                  <a:pt x="13439" y="11259"/>
                  <a:pt x="13350" y="11603"/>
                  <a:pt x="13419" y="11708"/>
                </a:cubicBezTo>
                <a:cubicBezTo>
                  <a:pt x="13507" y="11842"/>
                  <a:pt x="13767" y="11701"/>
                  <a:pt x="13841" y="11633"/>
                </a:cubicBezTo>
                <a:cubicBezTo>
                  <a:pt x="13919" y="11561"/>
                  <a:pt x="13889" y="11544"/>
                  <a:pt x="13841" y="11485"/>
                </a:cubicBezTo>
                <a:cubicBezTo>
                  <a:pt x="13732" y="11560"/>
                  <a:pt x="13672" y="11622"/>
                  <a:pt x="13593" y="11733"/>
                </a:cubicBezTo>
              </a:path>
              <a:path w="5037" h="1737">
                <a:moveTo>
                  <a:pt x="14585" y="11088"/>
                </a:moveTo>
                <a:cubicBezTo>
                  <a:pt x="14467" y="10993"/>
                  <a:pt x="14302" y="11034"/>
                  <a:pt x="14288" y="11212"/>
                </a:cubicBezTo>
                <a:cubicBezTo>
                  <a:pt x="14276" y="11364"/>
                  <a:pt x="14347" y="11532"/>
                  <a:pt x="14362" y="11683"/>
                </a:cubicBezTo>
              </a:path>
              <a:path w="5037" h="1737">
                <a:moveTo>
                  <a:pt x="14139" y="11485"/>
                </a:moveTo>
                <a:cubicBezTo>
                  <a:pt x="14304" y="11485"/>
                  <a:pt x="14354" y="11485"/>
                  <a:pt x="14461" y="11485"/>
                </a:cubicBezTo>
              </a:path>
              <a:path w="5037" h="1737">
                <a:moveTo>
                  <a:pt x="14759" y="11112"/>
                </a:moveTo>
                <a:cubicBezTo>
                  <a:pt x="14754" y="11199"/>
                  <a:pt x="14648" y="11546"/>
                  <a:pt x="14684" y="11609"/>
                </a:cubicBezTo>
                <a:cubicBezTo>
                  <a:pt x="14733" y="11694"/>
                  <a:pt x="14905" y="11658"/>
                  <a:pt x="14982" y="11658"/>
                </a:cubicBezTo>
              </a:path>
              <a:path w="5037" h="1737">
                <a:moveTo>
                  <a:pt x="14635" y="11460"/>
                </a:moveTo>
                <a:cubicBezTo>
                  <a:pt x="14749" y="11414"/>
                  <a:pt x="14780" y="11400"/>
                  <a:pt x="14858" y="11385"/>
                </a:cubicBezTo>
              </a:path>
              <a:path w="5037" h="1737">
                <a:moveTo>
                  <a:pt x="15131" y="11013"/>
                </a:moveTo>
                <a:cubicBezTo>
                  <a:pt x="15214" y="10968"/>
                  <a:pt x="15206" y="10946"/>
                  <a:pt x="15280" y="10988"/>
                </a:cubicBezTo>
                <a:cubicBezTo>
                  <a:pt x="15292" y="11103"/>
                  <a:pt x="15206" y="11161"/>
                  <a:pt x="15131" y="11261"/>
                </a:cubicBezTo>
                <a:cubicBezTo>
                  <a:pt x="15211" y="11307"/>
                  <a:pt x="15261" y="11305"/>
                  <a:pt x="15354" y="11311"/>
                </a:cubicBezTo>
              </a:path>
              <a:path w="5037" h="1737">
                <a:moveTo>
                  <a:pt x="11757" y="11931"/>
                </a:moveTo>
                <a:cubicBezTo>
                  <a:pt x="11760" y="11933"/>
                  <a:pt x="11896" y="11968"/>
                  <a:pt x="12055" y="11981"/>
                </a:cubicBezTo>
                <a:cubicBezTo>
                  <a:pt x="12313" y="12002"/>
                  <a:pt x="12567" y="12016"/>
                  <a:pt x="12824" y="12055"/>
                </a:cubicBezTo>
                <a:cubicBezTo>
                  <a:pt x="13030" y="12087"/>
                  <a:pt x="13240" y="12100"/>
                  <a:pt x="13444" y="12129"/>
                </a:cubicBezTo>
                <a:cubicBezTo>
                  <a:pt x="13593" y="12150"/>
                  <a:pt x="13740" y="12171"/>
                  <a:pt x="13891" y="12179"/>
                </a:cubicBezTo>
                <a:cubicBezTo>
                  <a:pt x="14038" y="12187"/>
                  <a:pt x="14219" y="12210"/>
                  <a:pt x="14362" y="12204"/>
                </a:cubicBezTo>
                <a:cubicBezTo>
                  <a:pt x="14488" y="12199"/>
                  <a:pt x="14605" y="12179"/>
                  <a:pt x="14734" y="12179"/>
                </a:cubicBezTo>
                <a:cubicBezTo>
                  <a:pt x="14837" y="12179"/>
                  <a:pt x="14934" y="12159"/>
                  <a:pt x="15032" y="12154"/>
                </a:cubicBezTo>
                <a:cubicBezTo>
                  <a:pt x="15141" y="12148"/>
                  <a:pt x="15201" y="12137"/>
                  <a:pt x="15304" y="12105"/>
                </a:cubicBezTo>
                <a:cubicBezTo>
                  <a:pt x="15403" y="12074"/>
                  <a:pt x="15533" y="12043"/>
                  <a:pt x="15627" y="11981"/>
                </a:cubicBezTo>
                <a:cubicBezTo>
                  <a:pt x="15698" y="11934"/>
                  <a:pt x="15805" y="11813"/>
                  <a:pt x="15850" y="11733"/>
                </a:cubicBezTo>
                <a:cubicBezTo>
                  <a:pt x="15886" y="11668"/>
                  <a:pt x="15916" y="11558"/>
                  <a:pt x="15925" y="11485"/>
                </a:cubicBezTo>
                <a:cubicBezTo>
                  <a:pt x="15937" y="11382"/>
                  <a:pt x="15921" y="11283"/>
                  <a:pt x="15900" y="11187"/>
                </a:cubicBezTo>
                <a:cubicBezTo>
                  <a:pt x="15883" y="11111"/>
                  <a:pt x="15843" y="11030"/>
                  <a:pt x="15801" y="10964"/>
                </a:cubicBezTo>
                <a:cubicBezTo>
                  <a:pt x="15757" y="10895"/>
                  <a:pt x="15711" y="10858"/>
                  <a:pt x="15652" y="10815"/>
                </a:cubicBezTo>
                <a:cubicBezTo>
                  <a:pt x="15591" y="10771"/>
                  <a:pt x="15518" y="10748"/>
                  <a:pt x="15453" y="10716"/>
                </a:cubicBezTo>
                <a:cubicBezTo>
                  <a:pt x="15376" y="10677"/>
                  <a:pt x="15334" y="10683"/>
                  <a:pt x="15255" y="10666"/>
                </a:cubicBezTo>
                <a:cubicBezTo>
                  <a:pt x="15155" y="10645"/>
                  <a:pt x="15038" y="10612"/>
                  <a:pt x="14932" y="10616"/>
                </a:cubicBezTo>
                <a:cubicBezTo>
                  <a:pt x="14837" y="10620"/>
                  <a:pt x="14735" y="10639"/>
                  <a:pt x="14635" y="10641"/>
                </a:cubicBezTo>
                <a:cubicBezTo>
                  <a:pt x="14369" y="10646"/>
                  <a:pt x="14101" y="10631"/>
                  <a:pt x="13841" y="10616"/>
                </a:cubicBezTo>
                <a:cubicBezTo>
                  <a:pt x="13583" y="10602"/>
                  <a:pt x="13326" y="10633"/>
                  <a:pt x="13072" y="10592"/>
                </a:cubicBezTo>
                <a:cubicBezTo>
                  <a:pt x="12975" y="10576"/>
                  <a:pt x="12873" y="10557"/>
                  <a:pt x="12774" y="10542"/>
                </a:cubicBezTo>
                <a:cubicBezTo>
                  <a:pt x="12700" y="10531"/>
                  <a:pt x="12625" y="10529"/>
                  <a:pt x="12551" y="10517"/>
                </a:cubicBezTo>
                <a:cubicBezTo>
                  <a:pt x="12420" y="10496"/>
                  <a:pt x="12288" y="10474"/>
                  <a:pt x="12154" y="10468"/>
                </a:cubicBezTo>
                <a:cubicBezTo>
                  <a:pt x="11977" y="10460"/>
                  <a:pt x="11804" y="10481"/>
                  <a:pt x="11633" y="10492"/>
                </a:cubicBezTo>
                <a:cubicBezTo>
                  <a:pt x="11542" y="10498"/>
                  <a:pt x="11474" y="10501"/>
                  <a:pt x="11385" y="10517"/>
                </a:cubicBezTo>
                <a:cubicBezTo>
                  <a:pt x="11268" y="10538"/>
                  <a:pt x="11227" y="10560"/>
                  <a:pt x="11137" y="10641"/>
                </a:cubicBezTo>
                <a:cubicBezTo>
                  <a:pt x="11068" y="10703"/>
                  <a:pt x="11031" y="10760"/>
                  <a:pt x="10988" y="10840"/>
                </a:cubicBezTo>
                <a:cubicBezTo>
                  <a:pt x="10916" y="10973"/>
                  <a:pt x="10911" y="10995"/>
                  <a:pt x="10914" y="11137"/>
                </a:cubicBezTo>
                <a:cubicBezTo>
                  <a:pt x="10916" y="11225"/>
                  <a:pt x="10920" y="11311"/>
                  <a:pt x="10939" y="11410"/>
                </a:cubicBezTo>
                <a:cubicBezTo>
                  <a:pt x="10955" y="11497"/>
                  <a:pt x="10976" y="11545"/>
                  <a:pt x="11038" y="11609"/>
                </a:cubicBezTo>
                <a:cubicBezTo>
                  <a:pt x="11112" y="11685"/>
                  <a:pt x="11223" y="11772"/>
                  <a:pt x="11311" y="11832"/>
                </a:cubicBezTo>
                <a:cubicBezTo>
                  <a:pt x="11459" y="11933"/>
                  <a:pt x="11587" y="11969"/>
                  <a:pt x="11757" y="12005"/>
                </a:cubicBezTo>
                <a:cubicBezTo>
                  <a:pt x="11927" y="12041"/>
                  <a:pt x="12105" y="12039"/>
                  <a:pt x="12278" y="12055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26160" y="3251160"/>
            <a:ext cx="1438200" cy="1535040"/>
          </a:xfrm>
          <a:custGeom>
            <a:avLst/>
            <a:gdLst/>
            <a:ahLst/>
            <a:rect l="l" t="t" r="r" b="b"/>
            <a:pathLst>
              <a:path w="3995" h="4267">
                <a:moveTo>
                  <a:pt x="18405" y="13295"/>
                </a:moveTo>
                <a:cubicBezTo>
                  <a:pt x="18419" y="13254"/>
                  <a:pt x="18436" y="13190"/>
                  <a:pt x="18455" y="13146"/>
                </a:cubicBezTo>
                <a:cubicBezTo>
                  <a:pt x="18491" y="13063"/>
                  <a:pt x="18501" y="13039"/>
                  <a:pt x="18504" y="12948"/>
                </a:cubicBezTo>
                <a:cubicBezTo>
                  <a:pt x="18511" y="12740"/>
                  <a:pt x="18513" y="12528"/>
                  <a:pt x="18529" y="12328"/>
                </a:cubicBezTo>
                <a:cubicBezTo>
                  <a:pt x="18537" y="12229"/>
                  <a:pt x="18560" y="12072"/>
                  <a:pt x="18554" y="11981"/>
                </a:cubicBezTo>
                <a:cubicBezTo>
                  <a:pt x="18549" y="11900"/>
                  <a:pt x="18549" y="11857"/>
                  <a:pt x="18554" y="11782"/>
                </a:cubicBezTo>
                <a:cubicBezTo>
                  <a:pt x="18559" y="11709"/>
                  <a:pt x="18531" y="11656"/>
                  <a:pt x="18529" y="11584"/>
                </a:cubicBezTo>
                <a:cubicBezTo>
                  <a:pt x="18527" y="11519"/>
                  <a:pt x="18511" y="11471"/>
                  <a:pt x="18504" y="11410"/>
                </a:cubicBezTo>
                <a:cubicBezTo>
                  <a:pt x="18495" y="11330"/>
                  <a:pt x="18522" y="11265"/>
                  <a:pt x="18529" y="11187"/>
                </a:cubicBezTo>
                <a:cubicBezTo>
                  <a:pt x="18536" y="11107"/>
                  <a:pt x="18549" y="11006"/>
                  <a:pt x="18554" y="10939"/>
                </a:cubicBezTo>
                <a:cubicBezTo>
                  <a:pt x="18560" y="10868"/>
                  <a:pt x="18526" y="10767"/>
                  <a:pt x="18529" y="10716"/>
                </a:cubicBezTo>
                <a:cubicBezTo>
                  <a:pt x="18533" y="10647"/>
                  <a:pt x="18564" y="10590"/>
                  <a:pt x="18554" y="10517"/>
                </a:cubicBezTo>
                <a:cubicBezTo>
                  <a:pt x="18547" y="10467"/>
                  <a:pt x="18512" y="10420"/>
                  <a:pt x="18504" y="10368"/>
                </a:cubicBezTo>
                <a:cubicBezTo>
                  <a:pt x="18487" y="10256"/>
                  <a:pt x="18499" y="10125"/>
                  <a:pt x="18529" y="10021"/>
                </a:cubicBezTo>
                <a:cubicBezTo>
                  <a:pt x="18546" y="9961"/>
                  <a:pt x="18543" y="9913"/>
                  <a:pt x="18554" y="9847"/>
                </a:cubicBezTo>
                <a:cubicBezTo>
                  <a:pt x="18564" y="9790"/>
                  <a:pt x="18579" y="9720"/>
                  <a:pt x="18579" y="9649"/>
                </a:cubicBezTo>
                <a:cubicBezTo>
                  <a:pt x="18579" y="9606"/>
                  <a:pt x="18561" y="9558"/>
                  <a:pt x="18554" y="9500"/>
                </a:cubicBezTo>
                <a:cubicBezTo>
                  <a:pt x="18540" y="9371"/>
                  <a:pt x="18562" y="9251"/>
                  <a:pt x="18529" y="9128"/>
                </a:cubicBezTo>
                <a:cubicBezTo>
                  <a:pt x="18520" y="9096"/>
                  <a:pt x="18514" y="9060"/>
                  <a:pt x="18504" y="9029"/>
                </a:cubicBezTo>
              </a:path>
              <a:path w="3995" h="4267">
                <a:moveTo>
                  <a:pt x="19199" y="11435"/>
                </a:moveTo>
                <a:cubicBezTo>
                  <a:pt x="19139" y="11614"/>
                  <a:pt x="19077" y="11784"/>
                  <a:pt x="19000" y="11956"/>
                </a:cubicBezTo>
                <a:cubicBezTo>
                  <a:pt x="19000" y="12080"/>
                  <a:pt x="19099" y="11685"/>
                  <a:pt x="19100" y="11683"/>
                </a:cubicBezTo>
                <a:cubicBezTo>
                  <a:pt x="19144" y="11557"/>
                  <a:pt x="19203" y="11265"/>
                  <a:pt x="19348" y="11286"/>
                </a:cubicBezTo>
                <a:cubicBezTo>
                  <a:pt x="19395" y="11546"/>
                  <a:pt x="19376" y="11691"/>
                  <a:pt x="19248" y="11931"/>
                </a:cubicBezTo>
              </a:path>
              <a:path w="3995" h="4267">
                <a:moveTo>
                  <a:pt x="19124" y="11683"/>
                </a:moveTo>
                <a:cubicBezTo>
                  <a:pt x="19287" y="11628"/>
                  <a:pt x="19351" y="11610"/>
                  <a:pt x="19472" y="11609"/>
                </a:cubicBezTo>
              </a:path>
              <a:path w="3995" h="4267">
                <a:moveTo>
                  <a:pt x="19670" y="11584"/>
                </a:moveTo>
                <a:cubicBezTo>
                  <a:pt x="19803" y="11562"/>
                  <a:pt x="19837" y="11549"/>
                  <a:pt x="19918" y="11584"/>
                </a:cubicBezTo>
              </a:path>
              <a:path w="3995" h="4267">
                <a:moveTo>
                  <a:pt x="19571" y="11782"/>
                </a:moveTo>
                <a:cubicBezTo>
                  <a:pt x="19604" y="11782"/>
                  <a:pt x="19637" y="11782"/>
                  <a:pt x="19670" y="11782"/>
                </a:cubicBezTo>
              </a:path>
              <a:path w="3995" h="4267">
                <a:moveTo>
                  <a:pt x="20191" y="11435"/>
                </a:moveTo>
                <a:cubicBezTo>
                  <a:pt x="20262" y="11423"/>
                  <a:pt x="20314" y="11415"/>
                  <a:pt x="20389" y="11410"/>
                </a:cubicBezTo>
                <a:cubicBezTo>
                  <a:pt x="20412" y="11630"/>
                  <a:pt x="20384" y="11815"/>
                  <a:pt x="20141" y="11906"/>
                </a:cubicBezTo>
                <a:cubicBezTo>
                  <a:pt x="20049" y="11906"/>
                  <a:pt x="20018" y="11913"/>
                  <a:pt x="20017" y="11832"/>
                </a:cubicBezTo>
                <a:cubicBezTo>
                  <a:pt x="20110" y="11724"/>
                  <a:pt x="20179" y="11770"/>
                  <a:pt x="20290" y="11857"/>
                </a:cubicBezTo>
                <a:cubicBezTo>
                  <a:pt x="20307" y="11873"/>
                  <a:pt x="20323" y="11890"/>
                  <a:pt x="20340" y="11906"/>
                </a:cubicBezTo>
              </a:path>
              <a:path w="3995" h="4267">
                <a:moveTo>
                  <a:pt x="20737" y="11534"/>
                </a:moveTo>
                <a:cubicBezTo>
                  <a:pt x="20717" y="11651"/>
                  <a:pt x="20707" y="11764"/>
                  <a:pt x="20687" y="11881"/>
                </a:cubicBezTo>
              </a:path>
              <a:path w="3995" h="4267">
                <a:moveTo>
                  <a:pt x="21109" y="11509"/>
                </a:moveTo>
                <a:cubicBezTo>
                  <a:pt x="20985" y="11657"/>
                  <a:pt x="20937" y="11746"/>
                  <a:pt x="20886" y="11931"/>
                </a:cubicBezTo>
                <a:cubicBezTo>
                  <a:pt x="21059" y="12001"/>
                  <a:pt x="21295" y="11997"/>
                  <a:pt x="21307" y="11733"/>
                </a:cubicBezTo>
                <a:cubicBezTo>
                  <a:pt x="21263" y="11622"/>
                  <a:pt x="21259" y="11589"/>
                  <a:pt x="21183" y="11559"/>
                </a:cubicBezTo>
              </a:path>
              <a:path w="3995" h="4267">
                <a:moveTo>
                  <a:pt x="21779" y="11410"/>
                </a:moveTo>
                <a:cubicBezTo>
                  <a:pt x="21731" y="11386"/>
                  <a:pt x="21716" y="11378"/>
                  <a:pt x="21679" y="11385"/>
                </a:cubicBezTo>
                <a:cubicBezTo>
                  <a:pt x="21679" y="11531"/>
                  <a:pt x="21687" y="11664"/>
                  <a:pt x="21704" y="11807"/>
                </a:cubicBezTo>
                <a:cubicBezTo>
                  <a:pt x="21704" y="11815"/>
                  <a:pt x="21704" y="11824"/>
                  <a:pt x="21704" y="11832"/>
                </a:cubicBezTo>
              </a:path>
              <a:path w="3995" h="4267">
                <a:moveTo>
                  <a:pt x="21605" y="11733"/>
                </a:moveTo>
                <a:cubicBezTo>
                  <a:pt x="21655" y="11733"/>
                  <a:pt x="21704" y="11733"/>
                  <a:pt x="21754" y="11733"/>
                </a:cubicBezTo>
              </a:path>
              <a:path w="3995" h="4267">
                <a:moveTo>
                  <a:pt x="22002" y="11460"/>
                </a:moveTo>
                <a:cubicBezTo>
                  <a:pt x="21994" y="11627"/>
                  <a:pt x="21940" y="11720"/>
                  <a:pt x="22051" y="11832"/>
                </a:cubicBezTo>
              </a:path>
              <a:path w="3995" h="4267">
                <a:moveTo>
                  <a:pt x="21878" y="11658"/>
                </a:moveTo>
                <a:cubicBezTo>
                  <a:pt x="21936" y="11650"/>
                  <a:pt x="21993" y="11641"/>
                  <a:pt x="22051" y="11633"/>
                </a:cubicBezTo>
              </a:path>
              <a:path w="3995" h="4267">
                <a:moveTo>
                  <a:pt x="22200" y="11286"/>
                </a:moveTo>
                <a:cubicBezTo>
                  <a:pt x="22265" y="11264"/>
                  <a:pt x="22280" y="11256"/>
                  <a:pt x="22324" y="11261"/>
                </a:cubicBezTo>
                <a:cubicBezTo>
                  <a:pt x="22287" y="11410"/>
                  <a:pt x="22254" y="11431"/>
                  <a:pt x="22126" y="11534"/>
                </a:cubicBezTo>
                <a:cubicBezTo>
                  <a:pt x="22257" y="11560"/>
                  <a:pt x="22306" y="11569"/>
                  <a:pt x="22399" y="11559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54320" y="3232080"/>
            <a:ext cx="295560" cy="196920"/>
          </a:xfrm>
          <a:custGeom>
            <a:avLst/>
            <a:gdLst/>
            <a:ahLst/>
            <a:rect l="l" t="t" r="r" b="b"/>
            <a:pathLst>
              <a:path w="820" h="547">
                <a:moveTo>
                  <a:pt x="11485" y="9054"/>
                </a:moveTo>
                <a:cubicBezTo>
                  <a:pt x="11388" y="9183"/>
                  <a:pt x="11331" y="9329"/>
                  <a:pt x="11261" y="9475"/>
                </a:cubicBezTo>
                <a:cubicBezTo>
                  <a:pt x="11309" y="9260"/>
                  <a:pt x="11345" y="9150"/>
                  <a:pt x="11509" y="9004"/>
                </a:cubicBezTo>
                <a:cubicBezTo>
                  <a:pt x="11517" y="8996"/>
                  <a:pt x="11526" y="8987"/>
                  <a:pt x="11534" y="8979"/>
                </a:cubicBezTo>
                <a:cubicBezTo>
                  <a:pt x="11650" y="9110"/>
                  <a:pt x="11635" y="9202"/>
                  <a:pt x="11584" y="9376"/>
                </a:cubicBezTo>
                <a:cubicBezTo>
                  <a:pt x="11548" y="9466"/>
                  <a:pt x="11531" y="9471"/>
                  <a:pt x="11534" y="9525"/>
                </a:cubicBezTo>
              </a:path>
              <a:path w="820" h="547">
                <a:moveTo>
                  <a:pt x="11385" y="9277"/>
                </a:moveTo>
                <a:cubicBezTo>
                  <a:pt x="11485" y="9277"/>
                  <a:pt x="11518" y="9277"/>
                  <a:pt x="11584" y="9277"/>
                </a:cubicBezTo>
              </a:path>
              <a:path w="820" h="547">
                <a:moveTo>
                  <a:pt x="11807" y="9327"/>
                </a:moveTo>
                <a:cubicBezTo>
                  <a:pt x="11900" y="9346"/>
                  <a:pt x="11983" y="9351"/>
                  <a:pt x="12080" y="9351"/>
                </a:cubicBezTo>
              </a:path>
              <a:path w="820" h="547">
                <a:moveTo>
                  <a:pt x="11782" y="9525"/>
                </a:moveTo>
                <a:cubicBezTo>
                  <a:pt x="11865" y="9525"/>
                  <a:pt x="11947" y="9525"/>
                  <a:pt x="12030" y="9525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56080" y="3303720"/>
            <a:ext cx="295200" cy="161640"/>
          </a:xfrm>
          <a:custGeom>
            <a:avLst/>
            <a:gdLst/>
            <a:ahLst/>
            <a:rect l="l" t="t" r="r" b="b"/>
            <a:pathLst>
              <a:path w="819" h="447">
                <a:moveTo>
                  <a:pt x="12452" y="9178"/>
                </a:moveTo>
                <a:cubicBezTo>
                  <a:pt x="12441" y="9314"/>
                  <a:pt x="12420" y="9446"/>
                  <a:pt x="12378" y="9575"/>
                </a:cubicBezTo>
              </a:path>
              <a:path w="819" h="447">
                <a:moveTo>
                  <a:pt x="12626" y="9327"/>
                </a:moveTo>
                <a:cubicBezTo>
                  <a:pt x="12604" y="9438"/>
                  <a:pt x="12582" y="9520"/>
                  <a:pt x="12601" y="9624"/>
                </a:cubicBezTo>
                <a:cubicBezTo>
                  <a:pt x="12751" y="9609"/>
                  <a:pt x="12804" y="9564"/>
                  <a:pt x="12898" y="9451"/>
                </a:cubicBezTo>
                <a:cubicBezTo>
                  <a:pt x="12898" y="9597"/>
                  <a:pt x="12903" y="9657"/>
                  <a:pt x="13072" y="9599"/>
                </a:cubicBezTo>
                <a:cubicBezTo>
                  <a:pt x="13201" y="9555"/>
                  <a:pt x="13186" y="9515"/>
                  <a:pt x="13196" y="9401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991040" y="3375000"/>
            <a:ext cx="189000" cy="63360"/>
          </a:xfrm>
          <a:custGeom>
            <a:avLst/>
            <a:gdLst/>
            <a:ahLst/>
            <a:rect l="l" t="t" r="r" b="b"/>
            <a:pathLst>
              <a:path w="522" h="175">
                <a:moveTo>
                  <a:pt x="14064" y="9376"/>
                </a:moveTo>
                <a:cubicBezTo>
                  <a:pt x="13944" y="9390"/>
                  <a:pt x="13924" y="9420"/>
                  <a:pt x="13866" y="9525"/>
                </a:cubicBezTo>
                <a:cubicBezTo>
                  <a:pt x="14000" y="9556"/>
                  <a:pt x="14036" y="9582"/>
                  <a:pt x="14089" y="9451"/>
                </a:cubicBezTo>
              </a:path>
              <a:path w="522" h="175">
                <a:moveTo>
                  <a:pt x="14263" y="9475"/>
                </a:moveTo>
                <a:cubicBezTo>
                  <a:pt x="14305" y="9558"/>
                  <a:pt x="14319" y="9424"/>
                  <a:pt x="14387" y="9376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0880" y="3313080"/>
            <a:ext cx="250920" cy="135000"/>
          </a:xfrm>
          <a:custGeom>
            <a:avLst/>
            <a:gdLst/>
            <a:ahLst/>
            <a:rect l="l" t="t" r="r" b="b"/>
            <a:pathLst>
              <a:path w="696" h="373">
                <a:moveTo>
                  <a:pt x="14808" y="9227"/>
                </a:moveTo>
                <a:cubicBezTo>
                  <a:pt x="14844" y="9316"/>
                  <a:pt x="14852" y="9379"/>
                  <a:pt x="14858" y="9475"/>
                </a:cubicBezTo>
                <a:cubicBezTo>
                  <a:pt x="14929" y="9395"/>
                  <a:pt x="14938" y="9349"/>
                  <a:pt x="15032" y="9302"/>
                </a:cubicBezTo>
                <a:cubicBezTo>
                  <a:pt x="15132" y="9252"/>
                  <a:pt x="15208" y="9382"/>
                  <a:pt x="15156" y="9475"/>
                </a:cubicBezTo>
                <a:cubicBezTo>
                  <a:pt x="15085" y="9522"/>
                  <a:pt x="15066" y="9539"/>
                  <a:pt x="15007" y="9525"/>
                </a:cubicBezTo>
              </a:path>
              <a:path w="696" h="373">
                <a:moveTo>
                  <a:pt x="15255" y="9203"/>
                </a:moveTo>
                <a:cubicBezTo>
                  <a:pt x="15266" y="9312"/>
                  <a:pt x="15280" y="9413"/>
                  <a:pt x="15280" y="9525"/>
                </a:cubicBezTo>
                <a:cubicBezTo>
                  <a:pt x="15315" y="9419"/>
                  <a:pt x="15317" y="9391"/>
                  <a:pt x="15404" y="9327"/>
                </a:cubicBezTo>
                <a:cubicBezTo>
                  <a:pt x="15509" y="9367"/>
                  <a:pt x="15503" y="9412"/>
                  <a:pt x="15503" y="9525"/>
                </a:cubicBezTo>
                <a:cubicBezTo>
                  <a:pt x="15503" y="9542"/>
                  <a:pt x="15503" y="9558"/>
                  <a:pt x="15503" y="9575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77000" y="3330720"/>
            <a:ext cx="795240" cy="250560"/>
          </a:xfrm>
          <a:custGeom>
            <a:avLst/>
            <a:gdLst/>
            <a:ahLst/>
            <a:rect l="l" t="t" r="r" b="b"/>
            <a:pathLst>
              <a:path w="2208" h="696">
                <a:moveTo>
                  <a:pt x="18901" y="9376"/>
                </a:moveTo>
                <a:cubicBezTo>
                  <a:pt x="18888" y="9561"/>
                  <a:pt x="18847" y="9740"/>
                  <a:pt x="18827" y="9922"/>
                </a:cubicBezTo>
                <a:cubicBezTo>
                  <a:pt x="18886" y="9679"/>
                  <a:pt x="18924" y="9453"/>
                  <a:pt x="19075" y="9252"/>
                </a:cubicBezTo>
                <a:cubicBezTo>
                  <a:pt x="19198" y="9454"/>
                  <a:pt x="19195" y="9661"/>
                  <a:pt x="19149" y="9897"/>
                </a:cubicBezTo>
                <a:cubicBezTo>
                  <a:pt x="19141" y="9914"/>
                  <a:pt x="19132" y="9930"/>
                  <a:pt x="19124" y="9947"/>
                </a:cubicBezTo>
              </a:path>
              <a:path w="2208" h="696">
                <a:moveTo>
                  <a:pt x="18926" y="9773"/>
                </a:moveTo>
                <a:cubicBezTo>
                  <a:pt x="19024" y="9748"/>
                  <a:pt x="19056" y="9740"/>
                  <a:pt x="19124" y="9748"/>
                </a:cubicBezTo>
              </a:path>
              <a:path w="2208" h="696">
                <a:moveTo>
                  <a:pt x="19298" y="9699"/>
                </a:moveTo>
                <a:cubicBezTo>
                  <a:pt x="19390" y="9678"/>
                  <a:pt x="19477" y="9667"/>
                  <a:pt x="19571" y="9649"/>
                </a:cubicBezTo>
              </a:path>
              <a:path w="2208" h="696">
                <a:moveTo>
                  <a:pt x="19298" y="9872"/>
                </a:moveTo>
                <a:cubicBezTo>
                  <a:pt x="19413" y="9895"/>
                  <a:pt x="19445" y="9904"/>
                  <a:pt x="19521" y="9897"/>
                </a:cubicBezTo>
              </a:path>
              <a:path w="2208" h="696">
                <a:moveTo>
                  <a:pt x="19918" y="9277"/>
                </a:moveTo>
                <a:cubicBezTo>
                  <a:pt x="19908" y="9468"/>
                  <a:pt x="19877" y="9656"/>
                  <a:pt x="19869" y="9847"/>
                </a:cubicBezTo>
              </a:path>
              <a:path w="2208" h="696">
                <a:moveTo>
                  <a:pt x="20166" y="9550"/>
                </a:moveTo>
                <a:cubicBezTo>
                  <a:pt x="20229" y="9655"/>
                  <a:pt x="20285" y="9762"/>
                  <a:pt x="20340" y="9872"/>
                </a:cubicBezTo>
              </a:path>
              <a:path w="2208" h="696">
                <a:moveTo>
                  <a:pt x="20389" y="9575"/>
                </a:moveTo>
                <a:cubicBezTo>
                  <a:pt x="20316" y="9691"/>
                  <a:pt x="20252" y="9799"/>
                  <a:pt x="20191" y="9922"/>
                </a:cubicBezTo>
              </a:path>
              <a:path w="2208" h="696">
                <a:moveTo>
                  <a:pt x="20538" y="9624"/>
                </a:moveTo>
                <a:cubicBezTo>
                  <a:pt x="20536" y="9635"/>
                  <a:pt x="20432" y="9928"/>
                  <a:pt x="20538" y="9897"/>
                </a:cubicBezTo>
                <a:cubicBezTo>
                  <a:pt x="20627" y="9838"/>
                  <a:pt x="20664" y="9809"/>
                  <a:pt x="20712" y="9748"/>
                </a:cubicBezTo>
                <a:cubicBezTo>
                  <a:pt x="20729" y="9732"/>
                  <a:pt x="20745" y="9715"/>
                  <a:pt x="20762" y="9699"/>
                </a:cubicBezTo>
                <a:cubicBezTo>
                  <a:pt x="20708" y="9849"/>
                  <a:pt x="20753" y="9917"/>
                  <a:pt x="20935" y="9847"/>
                </a:cubicBezTo>
                <a:cubicBezTo>
                  <a:pt x="21071" y="9795"/>
                  <a:pt x="21036" y="9658"/>
                  <a:pt x="21010" y="9550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44960" y="3517920"/>
            <a:ext cx="277920" cy="196920"/>
          </a:xfrm>
          <a:custGeom>
            <a:avLst/>
            <a:gdLst/>
            <a:ahLst/>
            <a:rect l="l" t="t" r="r" b="b"/>
            <a:pathLst>
              <a:path w="769" h="547">
                <a:moveTo>
                  <a:pt x="11361" y="9922"/>
                </a:moveTo>
                <a:cubicBezTo>
                  <a:pt x="11327" y="10056"/>
                  <a:pt x="11288" y="10165"/>
                  <a:pt x="11237" y="10294"/>
                </a:cubicBezTo>
                <a:cubicBezTo>
                  <a:pt x="11268" y="10135"/>
                  <a:pt x="11288" y="9880"/>
                  <a:pt x="11435" y="9773"/>
                </a:cubicBezTo>
                <a:cubicBezTo>
                  <a:pt x="11452" y="9773"/>
                  <a:pt x="11468" y="9773"/>
                  <a:pt x="11485" y="9773"/>
                </a:cubicBezTo>
                <a:cubicBezTo>
                  <a:pt x="11583" y="9940"/>
                  <a:pt x="11604" y="10048"/>
                  <a:pt x="11559" y="10244"/>
                </a:cubicBezTo>
                <a:cubicBezTo>
                  <a:pt x="11551" y="10269"/>
                  <a:pt x="11542" y="10294"/>
                  <a:pt x="11534" y="10319"/>
                </a:cubicBezTo>
              </a:path>
              <a:path w="769" h="547">
                <a:moveTo>
                  <a:pt x="11311" y="10145"/>
                </a:moveTo>
                <a:cubicBezTo>
                  <a:pt x="11428" y="10145"/>
                  <a:pt x="11462" y="10147"/>
                  <a:pt x="11534" y="10120"/>
                </a:cubicBezTo>
              </a:path>
              <a:path w="769" h="547">
                <a:moveTo>
                  <a:pt x="11782" y="10170"/>
                </a:moveTo>
                <a:cubicBezTo>
                  <a:pt x="11857" y="10149"/>
                  <a:pt x="11924" y="10145"/>
                  <a:pt x="12005" y="10145"/>
                </a:cubicBezTo>
              </a:path>
              <a:path w="769" h="547">
                <a:moveTo>
                  <a:pt x="11782" y="10294"/>
                </a:moveTo>
                <a:cubicBezTo>
                  <a:pt x="11874" y="10294"/>
                  <a:pt x="11901" y="10292"/>
                  <a:pt x="11956" y="10319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56080" y="3643200"/>
            <a:ext cx="187200" cy="135000"/>
          </a:xfrm>
          <a:custGeom>
            <a:avLst/>
            <a:gdLst/>
            <a:ahLst/>
            <a:rect l="l" t="t" r="r" b="b"/>
            <a:pathLst>
              <a:path w="521" h="373">
                <a:moveTo>
                  <a:pt x="12452" y="10120"/>
                </a:moveTo>
                <a:cubicBezTo>
                  <a:pt x="12427" y="10228"/>
                  <a:pt x="12403" y="10335"/>
                  <a:pt x="12378" y="10443"/>
                </a:cubicBezTo>
              </a:path>
              <a:path w="521" h="373">
                <a:moveTo>
                  <a:pt x="12849" y="10170"/>
                </a:moveTo>
                <a:cubicBezTo>
                  <a:pt x="12741" y="10146"/>
                  <a:pt x="12670" y="10179"/>
                  <a:pt x="12576" y="10244"/>
                </a:cubicBezTo>
                <a:cubicBezTo>
                  <a:pt x="12620" y="10303"/>
                  <a:pt x="12750" y="10382"/>
                  <a:pt x="12750" y="10468"/>
                </a:cubicBezTo>
                <a:cubicBezTo>
                  <a:pt x="12742" y="10476"/>
                  <a:pt x="12733" y="10484"/>
                  <a:pt x="12725" y="10492"/>
                </a:cubicBezTo>
                <a:cubicBezTo>
                  <a:pt x="12560" y="10438"/>
                  <a:pt x="12693" y="10347"/>
                  <a:pt x="12799" y="10269"/>
                </a:cubicBezTo>
                <a:cubicBezTo>
                  <a:pt x="12878" y="10210"/>
                  <a:pt x="12911" y="10210"/>
                  <a:pt x="12898" y="10145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759200" y="3670200"/>
            <a:ext cx="98640" cy="98640"/>
          </a:xfrm>
          <a:custGeom>
            <a:avLst/>
            <a:gdLst/>
            <a:ahLst/>
            <a:rect l="l" t="t" r="r" b="b"/>
            <a:pathLst>
              <a:path w="274" h="274">
                <a:moveTo>
                  <a:pt x="13221" y="10269"/>
                </a:moveTo>
                <a:cubicBezTo>
                  <a:pt x="13286" y="10326"/>
                  <a:pt x="13322" y="10389"/>
                  <a:pt x="13370" y="10468"/>
                </a:cubicBezTo>
              </a:path>
              <a:path w="274" h="274">
                <a:moveTo>
                  <a:pt x="13494" y="10195"/>
                </a:moveTo>
                <a:cubicBezTo>
                  <a:pt x="13388" y="10274"/>
                  <a:pt x="13304" y="10343"/>
                  <a:pt x="13221" y="10443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983120" y="3670200"/>
            <a:ext cx="196920" cy="98640"/>
          </a:xfrm>
          <a:custGeom>
            <a:avLst/>
            <a:gdLst/>
            <a:ahLst/>
            <a:rect l="l" t="t" r="r" b="b"/>
            <a:pathLst>
              <a:path w="547" h="274">
                <a:moveTo>
                  <a:pt x="13841" y="10220"/>
                </a:moveTo>
                <a:cubicBezTo>
                  <a:pt x="13841" y="10303"/>
                  <a:pt x="13841" y="10385"/>
                  <a:pt x="13841" y="10468"/>
                </a:cubicBezTo>
              </a:path>
              <a:path w="547" h="274">
                <a:moveTo>
                  <a:pt x="14064" y="10244"/>
                </a:moveTo>
                <a:cubicBezTo>
                  <a:pt x="14211" y="10206"/>
                  <a:pt x="14188" y="10181"/>
                  <a:pt x="14288" y="10269"/>
                </a:cubicBezTo>
                <a:cubicBezTo>
                  <a:pt x="14241" y="10316"/>
                  <a:pt x="14194" y="10360"/>
                  <a:pt x="14139" y="10393"/>
                </a:cubicBezTo>
                <a:cubicBezTo>
                  <a:pt x="14122" y="10401"/>
                  <a:pt x="14106" y="10410"/>
                  <a:pt x="14089" y="10418"/>
                </a:cubicBezTo>
                <a:cubicBezTo>
                  <a:pt x="14196" y="10468"/>
                  <a:pt x="14266" y="10468"/>
                  <a:pt x="14387" y="10468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04000" y="3705120"/>
            <a:ext cx="509760" cy="243000"/>
          </a:xfrm>
          <a:custGeom>
            <a:avLst/>
            <a:gdLst/>
            <a:ahLst/>
            <a:rect l="l" t="t" r="r" b="b"/>
            <a:pathLst>
              <a:path w="1415" h="671">
                <a:moveTo>
                  <a:pt x="19000" y="10492"/>
                </a:moveTo>
                <a:cubicBezTo>
                  <a:pt x="18959" y="10652"/>
                  <a:pt x="18918" y="10802"/>
                  <a:pt x="18901" y="10964"/>
                </a:cubicBezTo>
                <a:cubicBezTo>
                  <a:pt x="18976" y="10765"/>
                  <a:pt x="19035" y="10487"/>
                  <a:pt x="19174" y="10319"/>
                </a:cubicBezTo>
                <a:cubicBezTo>
                  <a:pt x="19191" y="10311"/>
                  <a:pt x="19207" y="10302"/>
                  <a:pt x="19224" y="10294"/>
                </a:cubicBezTo>
                <a:cubicBezTo>
                  <a:pt x="19332" y="10404"/>
                  <a:pt x="19339" y="10581"/>
                  <a:pt x="19298" y="10740"/>
                </a:cubicBezTo>
                <a:cubicBezTo>
                  <a:pt x="19257" y="10821"/>
                  <a:pt x="19241" y="10834"/>
                  <a:pt x="19248" y="10889"/>
                </a:cubicBezTo>
              </a:path>
              <a:path w="1415" h="671">
                <a:moveTo>
                  <a:pt x="19000" y="10790"/>
                </a:moveTo>
                <a:cubicBezTo>
                  <a:pt x="19085" y="10748"/>
                  <a:pt x="19152" y="10746"/>
                  <a:pt x="19248" y="10740"/>
                </a:cubicBezTo>
              </a:path>
              <a:path w="1415" h="671">
                <a:moveTo>
                  <a:pt x="19496" y="10691"/>
                </a:moveTo>
                <a:cubicBezTo>
                  <a:pt x="19614" y="10680"/>
                  <a:pt x="19725" y="10666"/>
                  <a:pt x="19844" y="10666"/>
                </a:cubicBezTo>
              </a:path>
              <a:path w="1415" h="671">
                <a:moveTo>
                  <a:pt x="19447" y="10864"/>
                </a:moveTo>
                <a:cubicBezTo>
                  <a:pt x="19555" y="10855"/>
                  <a:pt x="19660" y="10845"/>
                  <a:pt x="19769" y="10840"/>
                </a:cubicBezTo>
              </a:path>
              <a:path w="1415" h="671">
                <a:moveTo>
                  <a:pt x="20141" y="10418"/>
                </a:moveTo>
                <a:cubicBezTo>
                  <a:pt x="20204" y="10404"/>
                  <a:pt x="20252" y="10382"/>
                  <a:pt x="20315" y="10368"/>
                </a:cubicBezTo>
                <a:cubicBezTo>
                  <a:pt x="20270" y="10549"/>
                  <a:pt x="20172" y="10634"/>
                  <a:pt x="20042" y="10765"/>
                </a:cubicBezTo>
                <a:cubicBezTo>
                  <a:pt x="19934" y="10873"/>
                  <a:pt x="20181" y="10815"/>
                  <a:pt x="20265" y="10815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419960" y="3751200"/>
            <a:ext cx="19080" cy="133560"/>
          </a:xfrm>
          <a:custGeom>
            <a:avLst/>
            <a:gdLst/>
            <a:ahLst/>
            <a:rect l="l" t="t" r="r" b="b"/>
            <a:pathLst>
              <a:path w="50" h="373">
                <a:moveTo>
                  <a:pt x="20662" y="10418"/>
                </a:moveTo>
                <a:cubicBezTo>
                  <a:pt x="20641" y="10544"/>
                  <a:pt x="20621" y="10663"/>
                  <a:pt x="20613" y="10790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535880" y="3714840"/>
            <a:ext cx="376200" cy="250560"/>
          </a:xfrm>
          <a:custGeom>
            <a:avLst/>
            <a:gdLst/>
            <a:ahLst/>
            <a:rect l="l" t="t" r="r" b="b"/>
            <a:pathLst>
              <a:path w="1043" h="695">
                <a:moveTo>
                  <a:pt x="21158" y="10319"/>
                </a:moveTo>
                <a:cubicBezTo>
                  <a:pt x="21027" y="10438"/>
                  <a:pt x="20935" y="10600"/>
                  <a:pt x="20935" y="10790"/>
                </a:cubicBezTo>
                <a:cubicBezTo>
                  <a:pt x="20935" y="10907"/>
                  <a:pt x="20974" y="10905"/>
                  <a:pt x="21059" y="10939"/>
                </a:cubicBezTo>
              </a:path>
              <a:path w="1043" h="695">
                <a:moveTo>
                  <a:pt x="21258" y="10517"/>
                </a:moveTo>
                <a:cubicBezTo>
                  <a:pt x="21246" y="10658"/>
                  <a:pt x="21223" y="10753"/>
                  <a:pt x="21183" y="10889"/>
                </a:cubicBezTo>
              </a:path>
              <a:path w="1043" h="695">
                <a:moveTo>
                  <a:pt x="21555" y="10542"/>
                </a:moveTo>
                <a:cubicBezTo>
                  <a:pt x="21505" y="10642"/>
                  <a:pt x="21482" y="10729"/>
                  <a:pt x="21456" y="10840"/>
                </a:cubicBezTo>
                <a:cubicBezTo>
                  <a:pt x="21605" y="10908"/>
                  <a:pt x="21743" y="10905"/>
                  <a:pt x="21754" y="10691"/>
                </a:cubicBezTo>
                <a:cubicBezTo>
                  <a:pt x="21746" y="10658"/>
                  <a:pt x="21737" y="10625"/>
                  <a:pt x="21729" y="10592"/>
                </a:cubicBezTo>
              </a:path>
              <a:path w="1043" h="695">
                <a:moveTo>
                  <a:pt x="21903" y="10344"/>
                </a:moveTo>
                <a:cubicBezTo>
                  <a:pt x="21998" y="10652"/>
                  <a:pt x="21967" y="10736"/>
                  <a:pt x="21803" y="11013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8120" y="3116160"/>
            <a:ext cx="606600" cy="1590840"/>
          </a:xfrm>
          <a:custGeom>
            <a:avLst/>
            <a:gdLst/>
            <a:ahLst/>
            <a:rect l="l" t="t" r="r" b="b"/>
            <a:pathLst>
              <a:path w="1688" h="4416">
                <a:moveTo>
                  <a:pt x="2282" y="9178"/>
                </a:moveTo>
                <a:cubicBezTo>
                  <a:pt x="2255" y="9395"/>
                  <a:pt x="2221" y="9607"/>
                  <a:pt x="2183" y="9823"/>
                </a:cubicBezTo>
              </a:path>
              <a:path w="1688" h="4416">
                <a:moveTo>
                  <a:pt x="2803" y="9252"/>
                </a:moveTo>
                <a:cubicBezTo>
                  <a:pt x="2718" y="9309"/>
                  <a:pt x="2567" y="9355"/>
                  <a:pt x="2629" y="9475"/>
                </a:cubicBezTo>
                <a:cubicBezTo>
                  <a:pt x="2699" y="9609"/>
                  <a:pt x="2749" y="9604"/>
                  <a:pt x="2778" y="9748"/>
                </a:cubicBezTo>
                <a:cubicBezTo>
                  <a:pt x="2762" y="9773"/>
                  <a:pt x="2745" y="9798"/>
                  <a:pt x="2729" y="9823"/>
                </a:cubicBezTo>
                <a:cubicBezTo>
                  <a:pt x="2541" y="9745"/>
                  <a:pt x="2661" y="9635"/>
                  <a:pt x="2753" y="9451"/>
                </a:cubicBezTo>
              </a:path>
              <a:path w="1688" h="4416">
                <a:moveTo>
                  <a:pt x="1637" y="10120"/>
                </a:moveTo>
                <a:cubicBezTo>
                  <a:pt x="1702" y="10250"/>
                  <a:pt x="1705" y="10318"/>
                  <a:pt x="1712" y="10468"/>
                </a:cubicBezTo>
              </a:path>
              <a:path w="1688" h="4416">
                <a:moveTo>
                  <a:pt x="1786" y="10170"/>
                </a:moveTo>
                <a:cubicBezTo>
                  <a:pt x="1715" y="10337"/>
                  <a:pt x="1694" y="10388"/>
                  <a:pt x="1637" y="10492"/>
                </a:cubicBezTo>
              </a:path>
              <a:path w="1688" h="4416">
                <a:moveTo>
                  <a:pt x="2108" y="10244"/>
                </a:moveTo>
                <a:cubicBezTo>
                  <a:pt x="2101" y="10380"/>
                  <a:pt x="2094" y="10448"/>
                  <a:pt x="2034" y="10567"/>
                </a:cubicBezTo>
              </a:path>
              <a:path w="1688" h="4416">
                <a:moveTo>
                  <a:pt x="2381" y="10269"/>
                </a:moveTo>
                <a:cubicBezTo>
                  <a:pt x="2497" y="10242"/>
                  <a:pt x="2576" y="10215"/>
                  <a:pt x="2654" y="10294"/>
                </a:cubicBezTo>
                <a:cubicBezTo>
                  <a:pt x="2593" y="10415"/>
                  <a:pt x="2525" y="10471"/>
                  <a:pt x="2406" y="10542"/>
                </a:cubicBezTo>
                <a:cubicBezTo>
                  <a:pt x="2508" y="10536"/>
                  <a:pt x="2602" y="10523"/>
                  <a:pt x="2704" y="10517"/>
                </a:cubicBezTo>
              </a:path>
              <a:path w="1688" h="4416">
                <a:moveTo>
                  <a:pt x="1811" y="10740"/>
                </a:moveTo>
                <a:cubicBezTo>
                  <a:pt x="2129" y="10710"/>
                  <a:pt x="2434" y="10724"/>
                  <a:pt x="2753" y="10740"/>
                </a:cubicBezTo>
                <a:cubicBezTo>
                  <a:pt x="2786" y="10740"/>
                  <a:pt x="2820" y="10740"/>
                  <a:pt x="2853" y="10740"/>
                </a:cubicBezTo>
              </a:path>
              <a:path w="1688" h="4416">
                <a:moveTo>
                  <a:pt x="2679" y="10964"/>
                </a:moveTo>
                <a:cubicBezTo>
                  <a:pt x="2590" y="11100"/>
                  <a:pt x="2555" y="11175"/>
                  <a:pt x="2555" y="11336"/>
                </a:cubicBezTo>
                <a:cubicBezTo>
                  <a:pt x="2698" y="11360"/>
                  <a:pt x="2817" y="11348"/>
                  <a:pt x="2902" y="11212"/>
                </a:cubicBezTo>
                <a:cubicBezTo>
                  <a:pt x="2902" y="11204"/>
                  <a:pt x="2902" y="11195"/>
                  <a:pt x="2902" y="11187"/>
                </a:cubicBezTo>
                <a:cubicBezTo>
                  <a:pt x="2773" y="11176"/>
                  <a:pt x="2734" y="11200"/>
                  <a:pt x="2704" y="11336"/>
                </a:cubicBezTo>
              </a:path>
              <a:path w="1688" h="4416">
                <a:moveTo>
                  <a:pt x="2307" y="8781"/>
                </a:moveTo>
                <a:cubicBezTo>
                  <a:pt x="2329" y="8716"/>
                  <a:pt x="2337" y="8701"/>
                  <a:pt x="2332" y="8657"/>
                </a:cubicBezTo>
                <a:cubicBezTo>
                  <a:pt x="2332" y="8761"/>
                  <a:pt x="2327" y="8854"/>
                  <a:pt x="2307" y="8954"/>
                </a:cubicBezTo>
              </a:path>
              <a:path w="1688" h="4416">
                <a:moveTo>
                  <a:pt x="1885" y="11088"/>
                </a:moveTo>
                <a:cubicBezTo>
                  <a:pt x="1930" y="11051"/>
                  <a:pt x="2149" y="10869"/>
                  <a:pt x="2084" y="11088"/>
                </a:cubicBezTo>
                <a:cubicBezTo>
                  <a:pt x="2036" y="11159"/>
                  <a:pt x="2023" y="11182"/>
                  <a:pt x="1960" y="11187"/>
                </a:cubicBezTo>
                <a:cubicBezTo>
                  <a:pt x="2086" y="11160"/>
                  <a:pt x="2066" y="11143"/>
                  <a:pt x="2158" y="11212"/>
                </a:cubicBezTo>
                <a:cubicBezTo>
                  <a:pt x="2078" y="11300"/>
                  <a:pt x="2032" y="11322"/>
                  <a:pt x="1910" y="11336"/>
                </a:cubicBezTo>
              </a:path>
              <a:path w="1688" h="4416">
                <a:moveTo>
                  <a:pt x="2629" y="11658"/>
                </a:moveTo>
                <a:cubicBezTo>
                  <a:pt x="2584" y="11765"/>
                  <a:pt x="2547" y="11847"/>
                  <a:pt x="2530" y="11956"/>
                </a:cubicBezTo>
                <a:cubicBezTo>
                  <a:pt x="2606" y="11969"/>
                  <a:pt x="2858" y="11994"/>
                  <a:pt x="2803" y="11832"/>
                </a:cubicBezTo>
                <a:cubicBezTo>
                  <a:pt x="2786" y="11815"/>
                  <a:pt x="2770" y="11799"/>
                  <a:pt x="2753" y="11782"/>
                </a:cubicBezTo>
              </a:path>
              <a:path w="1688" h="4416">
                <a:moveTo>
                  <a:pt x="2133" y="11733"/>
                </a:moveTo>
                <a:cubicBezTo>
                  <a:pt x="2070" y="11733"/>
                  <a:pt x="2042" y="11736"/>
                  <a:pt x="1984" y="11757"/>
                </a:cubicBezTo>
                <a:cubicBezTo>
                  <a:pt x="2035" y="11834"/>
                  <a:pt x="2144" y="11935"/>
                  <a:pt x="2084" y="12030"/>
                </a:cubicBezTo>
                <a:cubicBezTo>
                  <a:pt x="2027" y="12087"/>
                  <a:pt x="2000" y="12102"/>
                  <a:pt x="1935" y="12055"/>
                </a:cubicBezTo>
                <a:cubicBezTo>
                  <a:pt x="1971" y="11933"/>
                  <a:pt x="2082" y="11889"/>
                  <a:pt x="2133" y="11782"/>
                </a:cubicBezTo>
                <a:cubicBezTo>
                  <a:pt x="2133" y="11766"/>
                  <a:pt x="2133" y="11749"/>
                  <a:pt x="2133" y="11733"/>
                </a:cubicBezTo>
              </a:path>
              <a:path w="1688" h="4416">
                <a:moveTo>
                  <a:pt x="1612" y="11807"/>
                </a:moveTo>
                <a:cubicBezTo>
                  <a:pt x="1568" y="11945"/>
                  <a:pt x="1546" y="12059"/>
                  <a:pt x="1538" y="12204"/>
                </a:cubicBezTo>
              </a:path>
              <a:path w="1688" h="4416">
                <a:moveTo>
                  <a:pt x="1215" y="12427"/>
                </a:moveTo>
                <a:cubicBezTo>
                  <a:pt x="1489" y="12406"/>
                  <a:pt x="1761" y="12355"/>
                  <a:pt x="2034" y="12328"/>
                </a:cubicBezTo>
                <a:cubicBezTo>
                  <a:pt x="2264" y="12305"/>
                  <a:pt x="2498" y="12289"/>
                  <a:pt x="2729" y="12278"/>
                </a:cubicBezTo>
              </a:path>
              <a:path w="1688" h="4416">
                <a:moveTo>
                  <a:pt x="2629" y="12452"/>
                </a:moveTo>
                <a:cubicBezTo>
                  <a:pt x="2594" y="12570"/>
                  <a:pt x="2501" y="12675"/>
                  <a:pt x="2456" y="12799"/>
                </a:cubicBezTo>
                <a:cubicBezTo>
                  <a:pt x="2448" y="12832"/>
                  <a:pt x="2439" y="12865"/>
                  <a:pt x="2431" y="12898"/>
                </a:cubicBezTo>
                <a:cubicBezTo>
                  <a:pt x="2596" y="12915"/>
                  <a:pt x="2690" y="12928"/>
                  <a:pt x="2803" y="12799"/>
                </a:cubicBezTo>
                <a:cubicBezTo>
                  <a:pt x="2717" y="12730"/>
                  <a:pt x="2648" y="12750"/>
                  <a:pt x="2580" y="12849"/>
                </a:cubicBezTo>
                <a:cubicBezTo>
                  <a:pt x="2572" y="12874"/>
                  <a:pt x="2563" y="12898"/>
                  <a:pt x="2555" y="12923"/>
                </a:cubicBezTo>
              </a:path>
              <a:path w="1688" h="4416">
                <a:moveTo>
                  <a:pt x="2084" y="12650"/>
                </a:moveTo>
                <a:cubicBezTo>
                  <a:pt x="2079" y="12752"/>
                  <a:pt x="2068" y="12847"/>
                  <a:pt x="2059" y="12948"/>
                </a:cubicBezTo>
              </a:path>
              <a:path w="1688" h="4416">
                <a:moveTo>
                  <a:pt x="1538" y="10988"/>
                </a:moveTo>
                <a:cubicBezTo>
                  <a:pt x="1515" y="11056"/>
                  <a:pt x="1492" y="11121"/>
                  <a:pt x="1463" y="11187"/>
                </a:cubicBezTo>
              </a:path>
              <a:path w="1688" h="4416">
                <a:moveTo>
                  <a:pt x="1265" y="12650"/>
                </a:moveTo>
                <a:cubicBezTo>
                  <a:pt x="1339" y="12650"/>
                  <a:pt x="1414" y="12650"/>
                  <a:pt x="1488" y="12650"/>
                </a:cubicBezTo>
                <a:cubicBezTo>
                  <a:pt x="1458" y="12852"/>
                  <a:pt x="1411" y="12933"/>
                  <a:pt x="1240" y="13047"/>
                </a:cubicBezTo>
                <a:cubicBezTo>
                  <a:pt x="1397" y="13086"/>
                  <a:pt x="1550" y="13073"/>
                  <a:pt x="1712" y="13047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16840" y="6375240"/>
            <a:ext cx="322200" cy="169920"/>
          </a:xfrm>
          <a:custGeom>
            <a:avLst/>
            <a:gdLst/>
            <a:ahLst/>
            <a:rect l="l" t="t" r="r" b="b"/>
            <a:pathLst>
              <a:path w="894" h="472">
                <a:moveTo>
                  <a:pt x="19869" y="18058"/>
                </a:moveTo>
                <a:cubicBezTo>
                  <a:pt x="20020" y="18108"/>
                  <a:pt x="20189" y="18104"/>
                  <a:pt x="20340" y="18157"/>
                </a:cubicBezTo>
                <a:cubicBezTo>
                  <a:pt x="20368" y="18185"/>
                  <a:pt x="20381" y="18194"/>
                  <a:pt x="20414" y="18182"/>
                </a:cubicBezTo>
              </a:path>
              <a:path w="894" h="472">
                <a:moveTo>
                  <a:pt x="19893" y="17760"/>
                </a:moveTo>
                <a:cubicBezTo>
                  <a:pt x="19896" y="17763"/>
                  <a:pt x="19829" y="17959"/>
                  <a:pt x="19769" y="18107"/>
                </a:cubicBezTo>
              </a:path>
              <a:path w="894" h="472">
                <a:moveTo>
                  <a:pt x="20340" y="17711"/>
                </a:moveTo>
                <a:cubicBezTo>
                  <a:pt x="20247" y="17773"/>
                  <a:pt x="20166" y="17906"/>
                  <a:pt x="20166" y="18033"/>
                </a:cubicBezTo>
                <a:cubicBezTo>
                  <a:pt x="20174" y="18058"/>
                  <a:pt x="20183" y="18082"/>
                  <a:pt x="20191" y="18107"/>
                </a:cubicBezTo>
                <a:cubicBezTo>
                  <a:pt x="20373" y="18124"/>
                  <a:pt x="20549" y="18151"/>
                  <a:pt x="20638" y="17959"/>
                </a:cubicBezTo>
                <a:cubicBezTo>
                  <a:pt x="20686" y="17856"/>
                  <a:pt x="20622" y="17741"/>
                  <a:pt x="20513" y="17711"/>
                </a:cubicBezTo>
                <a:cubicBezTo>
                  <a:pt x="20497" y="17711"/>
                  <a:pt x="20480" y="17711"/>
                  <a:pt x="20464" y="17711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57840" y="5392800"/>
            <a:ext cx="1108080" cy="600120"/>
          </a:xfrm>
          <a:custGeom>
            <a:avLst/>
            <a:gdLst/>
            <a:ahLst/>
            <a:rect l="l" t="t" r="r" b="b"/>
            <a:pathLst>
              <a:path w="3077" h="1663">
                <a:moveTo>
                  <a:pt x="13568" y="15429"/>
                </a:moveTo>
                <a:cubicBezTo>
                  <a:pt x="13592" y="15413"/>
                  <a:pt x="13630" y="15332"/>
                  <a:pt x="13618" y="15280"/>
                </a:cubicBezTo>
                <a:cubicBezTo>
                  <a:pt x="13589" y="15149"/>
                  <a:pt x="13513" y="15543"/>
                  <a:pt x="13494" y="15602"/>
                </a:cubicBezTo>
                <a:cubicBezTo>
                  <a:pt x="13494" y="15627"/>
                  <a:pt x="13494" y="15652"/>
                  <a:pt x="13494" y="15677"/>
                </a:cubicBezTo>
                <a:cubicBezTo>
                  <a:pt x="13524" y="15494"/>
                  <a:pt x="13584" y="15300"/>
                  <a:pt x="13667" y="15131"/>
                </a:cubicBezTo>
                <a:cubicBezTo>
                  <a:pt x="13730" y="15026"/>
                  <a:pt x="13734" y="14992"/>
                  <a:pt x="13816" y="14982"/>
                </a:cubicBezTo>
                <a:cubicBezTo>
                  <a:pt x="13979" y="15160"/>
                  <a:pt x="13968" y="15317"/>
                  <a:pt x="13915" y="15553"/>
                </a:cubicBezTo>
                <a:cubicBezTo>
                  <a:pt x="13907" y="15578"/>
                  <a:pt x="13899" y="15602"/>
                  <a:pt x="13891" y="15627"/>
                </a:cubicBezTo>
              </a:path>
              <a:path w="3077" h="1663">
                <a:moveTo>
                  <a:pt x="13568" y="15453"/>
                </a:moveTo>
                <a:cubicBezTo>
                  <a:pt x="13710" y="15429"/>
                  <a:pt x="13847" y="15411"/>
                  <a:pt x="13990" y="15404"/>
                </a:cubicBezTo>
              </a:path>
              <a:path w="3077" h="1663">
                <a:moveTo>
                  <a:pt x="14337" y="15280"/>
                </a:moveTo>
                <a:cubicBezTo>
                  <a:pt x="14452" y="15257"/>
                  <a:pt x="14484" y="15248"/>
                  <a:pt x="14560" y="15255"/>
                </a:cubicBezTo>
              </a:path>
              <a:path w="3077" h="1663">
                <a:moveTo>
                  <a:pt x="14213" y="15528"/>
                </a:moveTo>
                <a:cubicBezTo>
                  <a:pt x="14315" y="15513"/>
                  <a:pt x="14416" y="15504"/>
                  <a:pt x="14511" y="15478"/>
                </a:cubicBezTo>
              </a:path>
              <a:path w="3077" h="1663">
                <a:moveTo>
                  <a:pt x="15180" y="15131"/>
                </a:moveTo>
                <a:cubicBezTo>
                  <a:pt x="15273" y="15066"/>
                  <a:pt x="15312" y="15063"/>
                  <a:pt x="15429" y="15056"/>
                </a:cubicBezTo>
                <a:cubicBezTo>
                  <a:pt x="15525" y="15250"/>
                  <a:pt x="15486" y="15446"/>
                  <a:pt x="15230" y="15528"/>
                </a:cubicBezTo>
                <a:cubicBezTo>
                  <a:pt x="15118" y="15528"/>
                  <a:pt x="15086" y="15534"/>
                  <a:pt x="15032" y="15478"/>
                </a:cubicBezTo>
                <a:cubicBezTo>
                  <a:pt x="15141" y="15327"/>
                  <a:pt x="15261" y="15314"/>
                  <a:pt x="15429" y="15429"/>
                </a:cubicBezTo>
                <a:cubicBezTo>
                  <a:pt x="15454" y="15454"/>
                  <a:pt x="15478" y="15478"/>
                  <a:pt x="15503" y="15503"/>
                </a:cubicBezTo>
              </a:path>
              <a:path w="3077" h="1663">
                <a:moveTo>
                  <a:pt x="15726" y="15106"/>
                </a:moveTo>
                <a:cubicBezTo>
                  <a:pt x="15726" y="15247"/>
                  <a:pt x="15726" y="15387"/>
                  <a:pt x="15726" y="15528"/>
                </a:cubicBezTo>
              </a:path>
              <a:path w="3077" h="1663">
                <a:moveTo>
                  <a:pt x="16073" y="15081"/>
                </a:moveTo>
                <a:cubicBezTo>
                  <a:pt x="16093" y="15233"/>
                  <a:pt x="16073" y="15393"/>
                  <a:pt x="16073" y="15553"/>
                </a:cubicBezTo>
                <a:cubicBezTo>
                  <a:pt x="16260" y="15592"/>
                  <a:pt x="16344" y="15564"/>
                  <a:pt x="16495" y="15453"/>
                </a:cubicBezTo>
                <a:cubicBezTo>
                  <a:pt x="16365" y="15309"/>
                  <a:pt x="16297" y="15403"/>
                  <a:pt x="16197" y="15553"/>
                </a:cubicBezTo>
              </a:path>
              <a:path w="3077" h="1663">
                <a:moveTo>
                  <a:pt x="14585" y="15925"/>
                </a:moveTo>
                <a:cubicBezTo>
                  <a:pt x="14574" y="16050"/>
                  <a:pt x="14553" y="16151"/>
                  <a:pt x="14536" y="16272"/>
                </a:cubicBezTo>
              </a:path>
              <a:path w="3077" h="1663">
                <a:moveTo>
                  <a:pt x="14436" y="16073"/>
                </a:moveTo>
                <a:cubicBezTo>
                  <a:pt x="14568" y="16073"/>
                  <a:pt x="14701" y="16073"/>
                  <a:pt x="14833" y="16073"/>
                </a:cubicBezTo>
              </a:path>
              <a:path w="3077" h="1663">
                <a:moveTo>
                  <a:pt x="15205" y="15974"/>
                </a:moveTo>
                <a:cubicBezTo>
                  <a:pt x="15353" y="15955"/>
                  <a:pt x="15405" y="15946"/>
                  <a:pt x="15528" y="16024"/>
                </a:cubicBezTo>
                <a:cubicBezTo>
                  <a:pt x="15492" y="16177"/>
                  <a:pt x="15391" y="16373"/>
                  <a:pt x="15180" y="16346"/>
                </a:cubicBezTo>
                <a:cubicBezTo>
                  <a:pt x="15164" y="16330"/>
                  <a:pt x="15147" y="16313"/>
                  <a:pt x="15131" y="16297"/>
                </a:cubicBezTo>
                <a:cubicBezTo>
                  <a:pt x="15190" y="16179"/>
                  <a:pt x="15297" y="16051"/>
                  <a:pt x="15453" y="16148"/>
                </a:cubicBezTo>
                <a:cubicBezTo>
                  <a:pt x="15496" y="16211"/>
                  <a:pt x="15512" y="16223"/>
                  <a:pt x="15503" y="16272"/>
                </a:cubicBezTo>
              </a:path>
              <a:path w="3077" h="1663">
                <a:moveTo>
                  <a:pt x="15850" y="15974"/>
                </a:moveTo>
                <a:cubicBezTo>
                  <a:pt x="15868" y="16101"/>
                  <a:pt x="15875" y="16217"/>
                  <a:pt x="15875" y="16346"/>
                </a:cubicBezTo>
              </a:path>
              <a:path w="3077" h="1663">
                <a:moveTo>
                  <a:pt x="16470" y="15949"/>
                </a:moveTo>
                <a:cubicBezTo>
                  <a:pt x="16295" y="16078"/>
                  <a:pt x="16236" y="16169"/>
                  <a:pt x="16197" y="16371"/>
                </a:cubicBezTo>
                <a:cubicBezTo>
                  <a:pt x="16351" y="16433"/>
                  <a:pt x="16583" y="16451"/>
                  <a:pt x="16570" y="16197"/>
                </a:cubicBezTo>
                <a:cubicBezTo>
                  <a:pt x="16523" y="16105"/>
                  <a:pt x="16513" y="16076"/>
                  <a:pt x="16446" y="16049"/>
                </a:cubicBezTo>
              </a:path>
              <a:path w="3077" h="1663">
                <a:moveTo>
                  <a:pt x="15106" y="16644"/>
                </a:moveTo>
                <a:cubicBezTo>
                  <a:pt x="15264" y="16576"/>
                  <a:pt x="15540" y="16604"/>
                  <a:pt x="15701" y="16594"/>
                </a:cubicBezTo>
                <a:cubicBezTo>
                  <a:pt x="15984" y="16576"/>
                  <a:pt x="16262" y="16570"/>
                  <a:pt x="16545" y="16570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97200" y="5545080"/>
            <a:ext cx="339840" cy="625680"/>
          </a:xfrm>
          <a:custGeom>
            <a:avLst/>
            <a:gdLst/>
            <a:ahLst/>
            <a:rect l="l" t="t" r="r" b="b"/>
            <a:pathLst>
              <a:path w="944" h="1737">
                <a:moveTo>
                  <a:pt x="10592" y="15429"/>
                </a:moveTo>
                <a:cubicBezTo>
                  <a:pt x="10651" y="15429"/>
                  <a:pt x="10677" y="15426"/>
                  <a:pt x="10716" y="15404"/>
                </a:cubicBezTo>
                <a:cubicBezTo>
                  <a:pt x="10823" y="15583"/>
                  <a:pt x="10704" y="15692"/>
                  <a:pt x="10517" y="15776"/>
                </a:cubicBezTo>
                <a:cubicBezTo>
                  <a:pt x="10476" y="15784"/>
                  <a:pt x="10434" y="15793"/>
                  <a:pt x="10393" y="15801"/>
                </a:cubicBezTo>
                <a:cubicBezTo>
                  <a:pt x="10433" y="15713"/>
                  <a:pt x="10509" y="15586"/>
                  <a:pt x="10616" y="15701"/>
                </a:cubicBezTo>
                <a:cubicBezTo>
                  <a:pt x="10624" y="15718"/>
                  <a:pt x="10633" y="15734"/>
                  <a:pt x="10641" y="15751"/>
                </a:cubicBezTo>
              </a:path>
              <a:path w="944" h="1737">
                <a:moveTo>
                  <a:pt x="11088" y="15429"/>
                </a:moveTo>
                <a:cubicBezTo>
                  <a:pt x="10937" y="15503"/>
                  <a:pt x="11002" y="15547"/>
                  <a:pt x="11088" y="15677"/>
                </a:cubicBezTo>
                <a:cubicBezTo>
                  <a:pt x="11104" y="15702"/>
                  <a:pt x="11121" y="15726"/>
                  <a:pt x="11137" y="15751"/>
                </a:cubicBezTo>
                <a:cubicBezTo>
                  <a:pt x="11137" y="15768"/>
                  <a:pt x="11137" y="15784"/>
                  <a:pt x="11137" y="15801"/>
                </a:cubicBezTo>
                <a:cubicBezTo>
                  <a:pt x="10951" y="15784"/>
                  <a:pt x="11017" y="15713"/>
                  <a:pt x="11137" y="15627"/>
                </a:cubicBezTo>
                <a:cubicBezTo>
                  <a:pt x="11162" y="15610"/>
                  <a:pt x="11187" y="15594"/>
                  <a:pt x="11212" y="15577"/>
                </a:cubicBezTo>
              </a:path>
              <a:path w="944" h="1737">
                <a:moveTo>
                  <a:pt x="10269" y="16024"/>
                </a:moveTo>
                <a:cubicBezTo>
                  <a:pt x="10310" y="16000"/>
                  <a:pt x="10344" y="15993"/>
                  <a:pt x="10393" y="15974"/>
                </a:cubicBezTo>
              </a:path>
              <a:path w="944" h="1737">
                <a:moveTo>
                  <a:pt x="10542" y="15999"/>
                </a:moveTo>
                <a:cubicBezTo>
                  <a:pt x="10559" y="16106"/>
                  <a:pt x="10545" y="16162"/>
                  <a:pt x="10517" y="16272"/>
                </a:cubicBezTo>
              </a:path>
              <a:path w="944" h="1737">
                <a:moveTo>
                  <a:pt x="11063" y="15974"/>
                </a:moveTo>
                <a:cubicBezTo>
                  <a:pt x="10965" y="16019"/>
                  <a:pt x="10749" y="16044"/>
                  <a:pt x="10864" y="16173"/>
                </a:cubicBezTo>
                <a:cubicBezTo>
                  <a:pt x="10949" y="16236"/>
                  <a:pt x="10970" y="16248"/>
                  <a:pt x="11013" y="16297"/>
                </a:cubicBezTo>
                <a:cubicBezTo>
                  <a:pt x="10905" y="16381"/>
                  <a:pt x="10911" y="16362"/>
                  <a:pt x="10765" y="16346"/>
                </a:cubicBezTo>
                <a:cubicBezTo>
                  <a:pt x="10820" y="16209"/>
                  <a:pt x="10927" y="16141"/>
                  <a:pt x="11063" y="16073"/>
                </a:cubicBezTo>
              </a:path>
              <a:path w="944" h="1737">
                <a:moveTo>
                  <a:pt x="10319" y="16495"/>
                </a:moveTo>
                <a:cubicBezTo>
                  <a:pt x="10526" y="16518"/>
                  <a:pt x="10732" y="16501"/>
                  <a:pt x="10939" y="16520"/>
                </a:cubicBezTo>
                <a:cubicBezTo>
                  <a:pt x="10972" y="16528"/>
                  <a:pt x="11005" y="16537"/>
                  <a:pt x="11038" y="16545"/>
                </a:cubicBezTo>
              </a:path>
              <a:path w="944" h="1737">
                <a:moveTo>
                  <a:pt x="10666" y="16818"/>
                </a:moveTo>
                <a:cubicBezTo>
                  <a:pt x="10595" y="16932"/>
                  <a:pt x="10533" y="17039"/>
                  <a:pt x="10443" y="17140"/>
                </a:cubicBezTo>
              </a:path>
              <a:path w="944" h="1737">
                <a:moveTo>
                  <a:pt x="10889" y="16842"/>
                </a:moveTo>
                <a:cubicBezTo>
                  <a:pt x="10815" y="16900"/>
                  <a:pt x="10770" y="16962"/>
                  <a:pt x="10716" y="17041"/>
                </a:cubicBezTo>
                <a:cubicBezTo>
                  <a:pt x="10842" y="17078"/>
                  <a:pt x="11054" y="17117"/>
                  <a:pt x="11088" y="16917"/>
                </a:cubicBezTo>
                <a:cubicBezTo>
                  <a:pt x="11060" y="16834"/>
                  <a:pt x="11046" y="16803"/>
                  <a:pt x="10988" y="16768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19720" y="6054840"/>
            <a:ext cx="1073160" cy="544320"/>
          </a:xfrm>
          <a:custGeom>
            <a:avLst/>
            <a:gdLst/>
            <a:ahLst/>
            <a:rect l="l" t="t" r="r" b="b"/>
            <a:pathLst>
              <a:path w="2978" h="1514">
                <a:moveTo>
                  <a:pt x="12799" y="17289"/>
                </a:moveTo>
                <a:cubicBezTo>
                  <a:pt x="12685" y="17405"/>
                  <a:pt x="12654" y="17620"/>
                  <a:pt x="12601" y="17785"/>
                </a:cubicBezTo>
                <a:cubicBezTo>
                  <a:pt x="12593" y="17810"/>
                  <a:pt x="12584" y="17834"/>
                  <a:pt x="12576" y="17859"/>
                </a:cubicBezTo>
              </a:path>
              <a:path w="2978" h="1514">
                <a:moveTo>
                  <a:pt x="12278" y="17462"/>
                </a:moveTo>
                <a:cubicBezTo>
                  <a:pt x="12501" y="17366"/>
                  <a:pt x="12726" y="17283"/>
                  <a:pt x="12948" y="17190"/>
                </a:cubicBezTo>
              </a:path>
              <a:path w="2978" h="1514">
                <a:moveTo>
                  <a:pt x="13122" y="17438"/>
                </a:moveTo>
                <a:cubicBezTo>
                  <a:pt x="13038" y="17563"/>
                  <a:pt x="12997" y="17639"/>
                  <a:pt x="12973" y="17785"/>
                </a:cubicBezTo>
                <a:cubicBezTo>
                  <a:pt x="13129" y="17772"/>
                  <a:pt x="13311" y="17747"/>
                  <a:pt x="13295" y="17537"/>
                </a:cubicBezTo>
                <a:cubicBezTo>
                  <a:pt x="13279" y="17504"/>
                  <a:pt x="13262" y="17471"/>
                  <a:pt x="13246" y="17438"/>
                </a:cubicBezTo>
              </a:path>
              <a:path w="2978" h="1514">
                <a:moveTo>
                  <a:pt x="13593" y="17115"/>
                </a:moveTo>
                <a:cubicBezTo>
                  <a:pt x="13618" y="17313"/>
                  <a:pt x="13626" y="17379"/>
                  <a:pt x="13618" y="17512"/>
                </a:cubicBezTo>
              </a:path>
              <a:path w="2978" h="1514">
                <a:moveTo>
                  <a:pt x="13444" y="17363"/>
                </a:moveTo>
                <a:cubicBezTo>
                  <a:pt x="13579" y="17342"/>
                  <a:pt x="13708" y="17320"/>
                  <a:pt x="13841" y="17289"/>
                </a:cubicBezTo>
                <a:cubicBezTo>
                  <a:pt x="13841" y="17144"/>
                  <a:pt x="13674" y="17481"/>
                  <a:pt x="13643" y="17562"/>
                </a:cubicBezTo>
                <a:cubicBezTo>
                  <a:pt x="13828" y="17562"/>
                  <a:pt x="13865" y="17488"/>
                  <a:pt x="13940" y="17314"/>
                </a:cubicBezTo>
                <a:cubicBezTo>
                  <a:pt x="13926" y="17490"/>
                  <a:pt x="13966" y="17536"/>
                  <a:pt x="14114" y="17438"/>
                </a:cubicBezTo>
              </a:path>
              <a:path w="2978" h="1514">
                <a:moveTo>
                  <a:pt x="14238" y="16818"/>
                </a:moveTo>
                <a:cubicBezTo>
                  <a:pt x="14238" y="17028"/>
                  <a:pt x="14235" y="17230"/>
                  <a:pt x="14213" y="17438"/>
                </a:cubicBezTo>
              </a:path>
              <a:path w="2978" h="1514">
                <a:moveTo>
                  <a:pt x="13568" y="18083"/>
                </a:moveTo>
                <a:cubicBezTo>
                  <a:pt x="13531" y="18139"/>
                  <a:pt x="13514" y="18143"/>
                  <a:pt x="13519" y="18182"/>
                </a:cubicBezTo>
                <a:cubicBezTo>
                  <a:pt x="13589" y="17981"/>
                  <a:pt x="13684" y="17796"/>
                  <a:pt x="13791" y="17611"/>
                </a:cubicBezTo>
                <a:cubicBezTo>
                  <a:pt x="13824" y="17846"/>
                  <a:pt x="13782" y="18115"/>
                  <a:pt x="13841" y="18331"/>
                </a:cubicBezTo>
              </a:path>
              <a:path w="2978" h="1514">
                <a:moveTo>
                  <a:pt x="13667" y="18033"/>
                </a:moveTo>
                <a:cubicBezTo>
                  <a:pt x="13839" y="18039"/>
                  <a:pt x="14127" y="17869"/>
                  <a:pt x="14238" y="17884"/>
                </a:cubicBezTo>
                <a:cubicBezTo>
                  <a:pt x="14353" y="17900"/>
                  <a:pt x="14249" y="18148"/>
                  <a:pt x="14238" y="18207"/>
                </a:cubicBezTo>
                <a:cubicBezTo>
                  <a:pt x="14309" y="18052"/>
                  <a:pt x="14368" y="17953"/>
                  <a:pt x="14486" y="17835"/>
                </a:cubicBezTo>
              </a:path>
              <a:path w="2978" h="1514">
                <a:moveTo>
                  <a:pt x="14461" y="18033"/>
                </a:moveTo>
                <a:cubicBezTo>
                  <a:pt x="14599" y="17981"/>
                  <a:pt x="14636" y="17948"/>
                  <a:pt x="14734" y="17835"/>
                </a:cubicBezTo>
                <a:cubicBezTo>
                  <a:pt x="14583" y="17888"/>
                  <a:pt x="14434" y="17980"/>
                  <a:pt x="14511" y="18132"/>
                </a:cubicBezTo>
              </a:path>
              <a:path w="2978" h="1514">
                <a:moveTo>
                  <a:pt x="14883" y="17835"/>
                </a:moveTo>
                <a:cubicBezTo>
                  <a:pt x="14743" y="18014"/>
                  <a:pt x="14671" y="18036"/>
                  <a:pt x="14709" y="18231"/>
                </a:cubicBezTo>
                <a:cubicBezTo>
                  <a:pt x="14875" y="18173"/>
                  <a:pt x="14857" y="17879"/>
                  <a:pt x="15032" y="17884"/>
                </a:cubicBezTo>
                <a:cubicBezTo>
                  <a:pt x="15186" y="17888"/>
                  <a:pt x="15101" y="18171"/>
                  <a:pt x="15255" y="18182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87960" y="5919840"/>
            <a:ext cx="1447920" cy="554040"/>
          </a:xfrm>
          <a:custGeom>
            <a:avLst/>
            <a:gdLst/>
            <a:ahLst/>
            <a:rect l="l" t="t" r="r" b="b"/>
            <a:pathLst>
              <a:path w="4019" h="1538">
                <a:moveTo>
                  <a:pt x="15131" y="17810"/>
                </a:moveTo>
                <a:cubicBezTo>
                  <a:pt x="15345" y="17857"/>
                  <a:pt x="15561" y="17871"/>
                  <a:pt x="15776" y="17909"/>
                </a:cubicBezTo>
                <a:cubicBezTo>
                  <a:pt x="16076" y="17963"/>
                  <a:pt x="16361" y="18004"/>
                  <a:pt x="16669" y="17983"/>
                </a:cubicBezTo>
                <a:cubicBezTo>
                  <a:pt x="16856" y="17970"/>
                  <a:pt x="17055" y="17942"/>
                  <a:pt x="17239" y="17909"/>
                </a:cubicBezTo>
                <a:cubicBezTo>
                  <a:pt x="17369" y="17886"/>
                  <a:pt x="17484" y="17840"/>
                  <a:pt x="17611" y="17810"/>
                </a:cubicBezTo>
                <a:cubicBezTo>
                  <a:pt x="17785" y="17768"/>
                  <a:pt x="17930" y="17695"/>
                  <a:pt x="18083" y="17611"/>
                </a:cubicBezTo>
                <a:cubicBezTo>
                  <a:pt x="18236" y="17527"/>
                  <a:pt x="18241" y="17514"/>
                  <a:pt x="18331" y="17388"/>
                </a:cubicBezTo>
                <a:cubicBezTo>
                  <a:pt x="18403" y="17288"/>
                  <a:pt x="18444" y="17140"/>
                  <a:pt x="18430" y="17016"/>
                </a:cubicBezTo>
                <a:cubicBezTo>
                  <a:pt x="18414" y="16874"/>
                  <a:pt x="18303" y="16829"/>
                  <a:pt x="18207" y="16743"/>
                </a:cubicBezTo>
                <a:cubicBezTo>
                  <a:pt x="18126" y="16670"/>
                  <a:pt x="18069" y="16613"/>
                  <a:pt x="17959" y="16570"/>
                </a:cubicBezTo>
                <a:cubicBezTo>
                  <a:pt x="17790" y="16504"/>
                  <a:pt x="17519" y="16431"/>
                  <a:pt x="17338" y="16446"/>
                </a:cubicBezTo>
                <a:cubicBezTo>
                  <a:pt x="17221" y="16456"/>
                  <a:pt x="17108" y="16472"/>
                  <a:pt x="16991" y="16495"/>
                </a:cubicBezTo>
                <a:cubicBezTo>
                  <a:pt x="16826" y="16527"/>
                  <a:pt x="16659" y="16558"/>
                  <a:pt x="16495" y="16594"/>
                </a:cubicBezTo>
                <a:cubicBezTo>
                  <a:pt x="16367" y="16622"/>
                  <a:pt x="16295" y="16599"/>
                  <a:pt x="16173" y="16594"/>
                </a:cubicBezTo>
                <a:cubicBezTo>
                  <a:pt x="16031" y="16588"/>
                  <a:pt x="15912" y="16543"/>
                  <a:pt x="15776" y="16520"/>
                </a:cubicBezTo>
                <a:cubicBezTo>
                  <a:pt x="15637" y="16496"/>
                  <a:pt x="15520" y="16473"/>
                  <a:pt x="15379" y="16470"/>
                </a:cubicBezTo>
                <a:cubicBezTo>
                  <a:pt x="15264" y="16468"/>
                  <a:pt x="15145" y="16479"/>
                  <a:pt x="15032" y="16495"/>
                </a:cubicBezTo>
                <a:cubicBezTo>
                  <a:pt x="14849" y="16521"/>
                  <a:pt x="14647" y="16626"/>
                  <a:pt x="14536" y="16768"/>
                </a:cubicBezTo>
                <a:cubicBezTo>
                  <a:pt x="14457" y="16869"/>
                  <a:pt x="14424" y="16942"/>
                  <a:pt x="14412" y="17066"/>
                </a:cubicBezTo>
                <a:cubicBezTo>
                  <a:pt x="14400" y="17186"/>
                  <a:pt x="14411" y="17238"/>
                  <a:pt x="14511" y="17314"/>
                </a:cubicBezTo>
                <a:cubicBezTo>
                  <a:pt x="14629" y="17404"/>
                  <a:pt x="14841" y="17426"/>
                  <a:pt x="14982" y="17487"/>
                </a:cubicBezTo>
                <a:cubicBezTo>
                  <a:pt x="15066" y="17523"/>
                  <a:pt x="15164" y="17553"/>
                  <a:pt x="15255" y="17587"/>
                </a:cubicBezTo>
                <a:cubicBezTo>
                  <a:pt x="15271" y="17595"/>
                  <a:pt x="15288" y="17603"/>
                  <a:pt x="15304" y="17611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19800" y="6010200"/>
            <a:ext cx="1001520" cy="320760"/>
          </a:xfrm>
          <a:custGeom>
            <a:avLst/>
            <a:gdLst/>
            <a:ahLst/>
            <a:rect l="l" t="t" r="r" b="b"/>
            <a:pathLst>
              <a:path w="2780" h="894">
                <a:moveTo>
                  <a:pt x="15156" y="17041"/>
                </a:moveTo>
                <a:cubicBezTo>
                  <a:pt x="15126" y="17159"/>
                  <a:pt x="15091" y="17271"/>
                  <a:pt x="15056" y="17388"/>
                </a:cubicBezTo>
                <a:cubicBezTo>
                  <a:pt x="15247" y="17410"/>
                  <a:pt x="15367" y="17406"/>
                  <a:pt x="15553" y="17363"/>
                </a:cubicBezTo>
              </a:path>
              <a:path w="2780" h="894">
                <a:moveTo>
                  <a:pt x="15553" y="17016"/>
                </a:moveTo>
                <a:cubicBezTo>
                  <a:pt x="15482" y="17197"/>
                  <a:pt x="15423" y="17382"/>
                  <a:pt x="15354" y="17562"/>
                </a:cubicBezTo>
              </a:path>
              <a:path w="2780" h="894">
                <a:moveTo>
                  <a:pt x="15677" y="17115"/>
                </a:moveTo>
                <a:cubicBezTo>
                  <a:pt x="15864" y="17132"/>
                  <a:pt x="15925" y="17155"/>
                  <a:pt x="16073" y="17264"/>
                </a:cubicBezTo>
                <a:cubicBezTo>
                  <a:pt x="16042" y="17434"/>
                  <a:pt x="15951" y="17661"/>
                  <a:pt x="15701" y="17587"/>
                </a:cubicBezTo>
                <a:cubicBezTo>
                  <a:pt x="15668" y="17562"/>
                  <a:pt x="15635" y="17537"/>
                  <a:pt x="15602" y="17512"/>
                </a:cubicBezTo>
                <a:cubicBezTo>
                  <a:pt x="15659" y="17398"/>
                  <a:pt x="15786" y="17262"/>
                  <a:pt x="15925" y="17413"/>
                </a:cubicBezTo>
                <a:cubicBezTo>
                  <a:pt x="15941" y="17446"/>
                  <a:pt x="15958" y="17479"/>
                  <a:pt x="15974" y="17512"/>
                </a:cubicBezTo>
              </a:path>
              <a:path w="2780" h="894">
                <a:moveTo>
                  <a:pt x="16321" y="17066"/>
                </a:moveTo>
                <a:cubicBezTo>
                  <a:pt x="16309" y="17201"/>
                  <a:pt x="16267" y="17329"/>
                  <a:pt x="16247" y="17462"/>
                </a:cubicBezTo>
                <a:cubicBezTo>
                  <a:pt x="16247" y="17479"/>
                  <a:pt x="16247" y="17495"/>
                  <a:pt x="16247" y="17512"/>
                </a:cubicBezTo>
                <a:cubicBezTo>
                  <a:pt x="16382" y="17553"/>
                  <a:pt x="16585" y="17534"/>
                  <a:pt x="16669" y="17388"/>
                </a:cubicBezTo>
                <a:cubicBezTo>
                  <a:pt x="16725" y="17290"/>
                  <a:pt x="16487" y="17432"/>
                  <a:pt x="16446" y="17537"/>
                </a:cubicBezTo>
              </a:path>
              <a:path w="2780" h="894">
                <a:moveTo>
                  <a:pt x="17214" y="16942"/>
                </a:moveTo>
                <a:cubicBezTo>
                  <a:pt x="17146" y="16861"/>
                  <a:pt x="17031" y="16831"/>
                  <a:pt x="16966" y="16966"/>
                </a:cubicBezTo>
                <a:cubicBezTo>
                  <a:pt x="16910" y="17082"/>
                  <a:pt x="17065" y="17421"/>
                  <a:pt x="16991" y="17487"/>
                </a:cubicBezTo>
                <a:cubicBezTo>
                  <a:pt x="16958" y="17487"/>
                  <a:pt x="16925" y="17487"/>
                  <a:pt x="16892" y="17487"/>
                </a:cubicBezTo>
              </a:path>
              <a:path w="2780" h="894">
                <a:moveTo>
                  <a:pt x="16867" y="17289"/>
                </a:moveTo>
                <a:cubicBezTo>
                  <a:pt x="17008" y="17289"/>
                  <a:pt x="17051" y="17290"/>
                  <a:pt x="17140" y="17264"/>
                </a:cubicBezTo>
              </a:path>
              <a:path w="2780" h="894">
                <a:moveTo>
                  <a:pt x="17438" y="16966"/>
                </a:moveTo>
                <a:cubicBezTo>
                  <a:pt x="17420" y="17102"/>
                  <a:pt x="17314" y="17255"/>
                  <a:pt x="17314" y="17388"/>
                </a:cubicBezTo>
                <a:cubicBezTo>
                  <a:pt x="17314" y="17459"/>
                  <a:pt x="17391" y="17454"/>
                  <a:pt x="17438" y="17462"/>
                </a:cubicBezTo>
              </a:path>
              <a:path w="2780" h="894">
                <a:moveTo>
                  <a:pt x="17214" y="17239"/>
                </a:moveTo>
                <a:cubicBezTo>
                  <a:pt x="17363" y="17214"/>
                  <a:pt x="17413" y="17206"/>
                  <a:pt x="17512" y="17190"/>
                </a:cubicBezTo>
              </a:path>
              <a:path w="2780" h="894">
                <a:moveTo>
                  <a:pt x="17562" y="16718"/>
                </a:moveTo>
                <a:cubicBezTo>
                  <a:pt x="17595" y="16707"/>
                  <a:pt x="17824" y="16660"/>
                  <a:pt x="17835" y="16694"/>
                </a:cubicBezTo>
                <a:cubicBezTo>
                  <a:pt x="17875" y="16813"/>
                  <a:pt x="17647" y="16885"/>
                  <a:pt x="17587" y="16917"/>
                </a:cubicBezTo>
                <a:cubicBezTo>
                  <a:pt x="17685" y="16956"/>
                  <a:pt x="17709" y="16966"/>
                  <a:pt x="17810" y="16966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42080" y="3973680"/>
            <a:ext cx="1428840" cy="455400"/>
          </a:xfrm>
          <a:custGeom>
            <a:avLst/>
            <a:gdLst/>
            <a:ahLst/>
            <a:rect l="l" t="t" r="r" b="b"/>
            <a:pathLst>
              <a:path w="3969" h="1266">
                <a:moveTo>
                  <a:pt x="19472" y="12179"/>
                </a:moveTo>
                <a:cubicBezTo>
                  <a:pt x="19623" y="12230"/>
                  <a:pt x="19752" y="12240"/>
                  <a:pt x="19918" y="12254"/>
                </a:cubicBezTo>
                <a:cubicBezTo>
                  <a:pt x="20216" y="12280"/>
                  <a:pt x="20511" y="12278"/>
                  <a:pt x="20811" y="12278"/>
                </a:cubicBezTo>
                <a:cubicBezTo>
                  <a:pt x="20986" y="12278"/>
                  <a:pt x="21186" y="12312"/>
                  <a:pt x="21357" y="12303"/>
                </a:cubicBezTo>
                <a:cubicBezTo>
                  <a:pt x="21456" y="12298"/>
                  <a:pt x="21582" y="12273"/>
                  <a:pt x="21679" y="12254"/>
                </a:cubicBezTo>
                <a:cubicBezTo>
                  <a:pt x="21793" y="12231"/>
                  <a:pt x="21916" y="12230"/>
                  <a:pt x="22027" y="12204"/>
                </a:cubicBezTo>
                <a:cubicBezTo>
                  <a:pt x="22132" y="12180"/>
                  <a:pt x="22226" y="12142"/>
                  <a:pt x="22324" y="12105"/>
                </a:cubicBezTo>
                <a:cubicBezTo>
                  <a:pt x="22435" y="12064"/>
                  <a:pt x="22520" y="11973"/>
                  <a:pt x="22597" y="11881"/>
                </a:cubicBezTo>
                <a:cubicBezTo>
                  <a:pt x="22659" y="11807"/>
                  <a:pt x="22694" y="11731"/>
                  <a:pt x="22696" y="11633"/>
                </a:cubicBezTo>
                <a:cubicBezTo>
                  <a:pt x="22697" y="11580"/>
                  <a:pt x="22648" y="11470"/>
                  <a:pt x="22622" y="11410"/>
                </a:cubicBezTo>
                <a:cubicBezTo>
                  <a:pt x="22588" y="11332"/>
                  <a:pt x="22532" y="11265"/>
                  <a:pt x="22473" y="11212"/>
                </a:cubicBezTo>
                <a:cubicBezTo>
                  <a:pt x="22393" y="11140"/>
                  <a:pt x="22252" y="11089"/>
                  <a:pt x="22151" y="11063"/>
                </a:cubicBezTo>
                <a:cubicBezTo>
                  <a:pt x="22049" y="11036"/>
                  <a:pt x="21938" y="11029"/>
                  <a:pt x="21828" y="11038"/>
                </a:cubicBezTo>
                <a:cubicBezTo>
                  <a:pt x="21645" y="11054"/>
                  <a:pt x="21466" y="11100"/>
                  <a:pt x="21282" y="11112"/>
                </a:cubicBezTo>
                <a:cubicBezTo>
                  <a:pt x="21113" y="11123"/>
                  <a:pt x="20950" y="11102"/>
                  <a:pt x="20786" y="11088"/>
                </a:cubicBezTo>
                <a:cubicBezTo>
                  <a:pt x="20668" y="11078"/>
                  <a:pt x="20557" y="11051"/>
                  <a:pt x="20439" y="11038"/>
                </a:cubicBezTo>
                <a:cubicBezTo>
                  <a:pt x="20253" y="11018"/>
                  <a:pt x="20050" y="11036"/>
                  <a:pt x="19869" y="11063"/>
                </a:cubicBezTo>
                <a:cubicBezTo>
                  <a:pt x="19739" y="11082"/>
                  <a:pt x="19602" y="11091"/>
                  <a:pt x="19472" y="11112"/>
                </a:cubicBezTo>
                <a:cubicBezTo>
                  <a:pt x="19379" y="11127"/>
                  <a:pt x="19287" y="11141"/>
                  <a:pt x="19199" y="11162"/>
                </a:cubicBezTo>
                <a:cubicBezTo>
                  <a:pt x="19139" y="11176"/>
                  <a:pt x="19079" y="11166"/>
                  <a:pt x="19025" y="11212"/>
                </a:cubicBezTo>
                <a:cubicBezTo>
                  <a:pt x="18936" y="11289"/>
                  <a:pt x="18849" y="11426"/>
                  <a:pt x="18802" y="11534"/>
                </a:cubicBezTo>
                <a:cubicBezTo>
                  <a:pt x="18750" y="11654"/>
                  <a:pt x="18740" y="11760"/>
                  <a:pt x="18752" y="11881"/>
                </a:cubicBezTo>
                <a:cubicBezTo>
                  <a:pt x="18772" y="12077"/>
                  <a:pt x="19156" y="12005"/>
                  <a:pt x="19273" y="12005"/>
                </a:cubicBezTo>
                <a:cubicBezTo>
                  <a:pt x="19428" y="12005"/>
                  <a:pt x="19573" y="12005"/>
                  <a:pt x="19720" y="11981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95360" y="15235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the graph side of a dry erase board, create a composite figur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nt the number of spaces along each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formulas for area to find the area of each shape in your composi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all the are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 your answer by counting the squares within the fig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a new figure and repe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143000" y="167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 – 57 Worksh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7T00:59:00Z</dcterms:created>
  <dc:creator>Brian McGrath</dc:creator>
  <dc:description/>
  <dc:language>en-US</dc:language>
  <cp:lastModifiedBy>deanne elizabeth mcgrath</cp:lastModifiedBy>
  <dcterms:modified xsi:type="dcterms:W3CDTF">2010-05-17T17:47:22Z</dcterms:modified>
  <cp:revision>4</cp:revision>
  <dc:subject/>
  <dc:title>Today’s Objective:  Students will find the area of a composite figure</dc:title>
</cp:coreProperties>
</file>